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19.jpeg" ContentType="image/jpe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78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67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17.jpeg" ContentType="image/jpe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11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9F2443-3119-4E14-ADBA-C861FDF19B6E}" type="slidenum">
              <a:rPr b="0" lang="de-D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7E4BC4-E63A-4DE3-A8BD-8C4AC1F6781D}" type="slidenum">
              <a:rPr b="0" lang="de-D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Verdana"/>
              </a:rPr>
              <a:t>Powtórzenie: procedura gry na każdą rund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Verdana"/>
              </a:rPr>
              <a:t>Uwaga: Pomocne jest, jeśli gracze rozpoczną krótką rundę wprowadzającą na początku pierwszej rundy, krótko mówiąc innym, kim s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F298B9-A514-4AAD-B37D-213732456B7A}" type="slidenum">
              <a:rPr b="0" lang="de-D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66E8DF-665A-45E0-9B16-2BFB26842D02}" type="slidenum">
              <a:rPr b="0" lang="de-D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Verdana"/>
              </a:rPr>
              <a:t>Krótka intuicyjna ocena; „Zdystansuj się od roli - jak się czułeś/ czułaś?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735E5A-D1C2-4512-B0A3-39AB484B9F08}" type="slidenum">
              <a:rPr b="0" lang="de-D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Verdana"/>
              </a:rPr>
              <a:t>Umieść jeden znak postaci na każdym stole, aby pokazać, kto spotyka się przy którym stole (w sumie 8 stołów, po jednym na znak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Verdana"/>
              </a:rPr>
              <a:t>Wspólna ocena podczas sesji plenarnej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5854D4-D5EE-4FF5-9516-21B326398AC4}" type="slidenum">
              <a:rPr b="0" lang="de-D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Verdana"/>
              </a:rPr>
              <a:t>Zagadka: które wartości były najważniejsze w każdym z krajów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BBD179-E38A-45A9-B443-39D1F2820939}" type="slidenum">
              <a:rPr b="0" lang="de-D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Krótki opis podsumowują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Verdana"/>
              </a:rPr>
              <a:t>Jeśli nasze indywidualne wartości nie pokrywają się z wartościami kraju, w którym żyjemy, może to mieć poważne konsekwencj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Verdana"/>
              </a:rPr>
              <a:t>Jeszcze kilka lat temu często słyszeliśmy o takich konfliktach z innych części świata (np. prześladowania członków mniejszości, odmiennej religii, orientacji seksualnej; mniejszości walczą o wolność i tolerancję, a państwo chce je ograniczyć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Verdana"/>
              </a:rPr>
              <a:t>Jednak w ostatnich latach liczba konfliktów opartych na wartości między państwem a niektórymi grupami obywateli wzrosła również w Europie. Obywatele często oskarżają swoje rządy o nieprzestrzeganie wartości określonych w konstytucji krajowej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Verdana"/>
              </a:rPr>
              <a:t>Przykład: Węgrzy demonstrują przeciwko Orbánowi i krytykują „zniesienie demokracji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Verdana"/>
              </a:rPr>
              <a:t>Przykład: obywatele polscy protestują przeciwko przenikaniu się polityki i sądownictwa. Mówią, że zagraża to demokracji i rządom praw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Verdana"/>
              </a:rPr>
              <a:t>W obu przypadkach Komisja Europejska wszczęła postępowanie w sprawie uchybienia zobowiązaniom państwa członkowskiego, ponieważ widzi nie tylko wartości krajowe, ale także zagrożone wspólnie uzgodnione wartości europejski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Verdana"/>
              </a:rPr>
              <a:t>Pytanie: W jakim stopniu UE może chronić obywateli przed decyzjami ich rządów oraz chronić i bronić indywidualnych wartości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Verdana"/>
              </a:rPr>
              <a:t>Oraz: jakie są w końcu wartości europejskie? Czy istnieje „europejski sposób życia”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EE42C6-F963-4C69-99AD-C7E73067E7E6}" type="slidenum">
              <a:rPr b="0" lang="de-D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Krótkie wprowadzen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Verdana"/>
              </a:rPr>
              <a:t>Istnieją zarówno indywidualne, jak i zbiorowe wartości np. wartości narodowe (krajowe). Wartości narodowe można określać w konstytucjach krajowych lub są definiowane i interpretowane przez rzą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Verdana"/>
              </a:rPr>
              <a:t>Wartości indywidualne i krajowe mogą być takie same lub znacznie się różnić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Verdana"/>
              </a:rPr>
              <a:t>To, jak dobrze czujesz się w swoim własnym kraju, zależy od tego jak dobrze indywidualny zestaw wartości współgra z zestawem wartości państwa. Celem tego działania symulacyjnego jest lepsze zrozumienie i omówienie tej relacj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Verdana"/>
              </a:rPr>
              <a:t>W rzeczywistości większość z nas mieszka tylko w jednym kraju przez dłuższy czas, niektórzy doświadczają życia w różnych krajach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Verdana"/>
              </a:rPr>
              <a:t>Jednak w powyższym ćwiczeniu wyobraźmy sobie fikcyjny scenariusz (patrz następne slajdy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2657D3-EF7C-41DB-9828-B7B671BCAEAB}" type="slidenum">
              <a:rPr b="0" lang="de-D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Verdana"/>
              </a:rPr>
              <a:t>Przede wszystkim wcielicie się w role różnych postaci i utworzycie „grupy społeczne” złożone z 8 osób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CB836C-7594-493F-B092-34591F67FEA5}" type="slidenum">
              <a:rPr b="0" lang="de-D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Verdana"/>
              </a:rPr>
              <a:t>Drugi ważny aspekt: ​​w trzech kolejnych fazach będziesz mieszkać, wraz ze swoją „grupą społeczną”, w trzech różnych, fikcyjnych krajach. Warunki w tych państwach różnią się znacznie od siebi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3CE5AD-A748-4801-BEFF-5B41954C1B31}" type="slidenum">
              <a:rPr b="0" lang="de-D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Verdana"/>
              </a:rPr>
              <a:t>Otrzymasz bardziej szczegółowe informacje o każdym z krajów w profilu państwa podczas „wjazdu do kraju”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F9AD8A-6F13-46DC-B01A-3B84964CA27B}" type="slidenum">
              <a:rPr b="0" lang="de-D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Verdana"/>
              </a:rPr>
              <a:t>W każdym stanie będziesz miał zestaw kart wydarzeń, które podpowiedzą, jakie nowe prawa zostały uchwalone lub jakie orzeczenia zostały wydane. W każdym kraju Twoim zadaniem, podobnie jak pozostałych członków twojej grupy, będzie omówienie kart wydarzeń i ustalenie, czy popierasz jego decyzje czy nie - i dlaczeg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C23B23-B5AE-48ED-BE5A-055EE402DD0B}" type="slidenum">
              <a:rPr b="0" lang="de-D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Verdana"/>
              </a:rPr>
              <a:t>Plansza i pionek przedstawiający twoją postać mają pomóc ci zdecydować, czy zgadzasz się z działaniem państwa. Jeśli zgadzasz się z działaniem opisanym na karcie wydarzenia, przesuwasz swój pionek o jedno pole w górę; jeśli się nie zgadzasz - przesuwasz go o jedno pole w dó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0F94F0-F110-4209-9218-4CCA860F8745}" type="slidenum">
              <a:rPr b="0" lang="de-D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Verdana"/>
              </a:rPr>
              <a:t>Gra podzielona jest na trzy rundy. Ta sama „grupa społeczna” spotyka się w każdym kraju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5B6CFC-FC82-4C6A-B17E-9F5C96305D06}" type="slidenum">
              <a:rPr b="0" lang="de-D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Verdana"/>
              </a:rPr>
              <a:t>Po około 20 minutach „życia” i „dyskusji” razem w jednym kraju cała grupa przenosi się do innego kraju (Gagonia do Fontanii, Fontania do Lingland itd.). Ta sama procedura rozpoczyna się ponowni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Verdana"/>
              </a:rPr>
              <a:t>Runda druga i trzecia mogą być nieco krótsze, ponieważ uczestnicy znają już procedurę, zasady gry i siebie nawzaj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19DAAA-AA48-4D72-BF10-4730F326F76F}" type="slidenum">
              <a:rPr b="0" lang="de-D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3E65-3B05-45BC-AEAC-DB76CA025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A56C-DDB4-44B8-96A0-52722ECB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FA8A-741B-408B-8E05-933E1EE3B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E708-0003-459E-871E-D16AC1360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A545-D8C2-43E3-A83C-FBA3E104F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BA44D-0FB2-422A-9E5C-6A8A5876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75B4-70D3-45DC-892C-9427D1F4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2F09-C222-4BC5-A8D9-41962E24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72EE-829F-4009-B70D-67B9805F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59F8-3021-4294-91E1-F8DCFB62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54B6-AAE6-452E-8FD0-996E70A1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C729-7320-4BD1-987D-DD4150AE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4541-0425-495A-BA8C-97B8BFD9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62D5-D59E-4796-B0CB-D5AFE56C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37F5-D9B8-495F-AC60-92D0429A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309CE-CF96-40D4-A32D-68DF52C4D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DD14-D33F-4EE2-B753-44D73B023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8D393-CD8F-4530-BA76-329D5EB53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049D2-39E2-4405-AED1-F50E3189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BB01B-303A-4A83-8869-1EEBA74CA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141BC-D61C-47B4-8784-6AFA003A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14FC7-C087-4580-B78C-897E438D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14CA-0035-4369-A2E6-DECB0A7B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1AC97-60A2-445A-B4F3-68B886BC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BF05C-487D-4439-B0D3-8CD0D4DC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D05DC-A7D4-4218-B373-40F3FDB8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EC52F-C761-4D4E-ACC3-D55A6F0C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B13D5-EC44-4F13-9C44-308D8DBC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668A9-70D7-4661-8116-E93346694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5F82A-04D1-468F-A2BC-8729E9AB2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6521-C375-43F8-9684-7A2CC386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180C-2EA0-45B0-993F-89D278B6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87B5-CA2D-4244-A488-942F41CC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4E99-C383-46EE-9020-0A6BFC8B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A8AC-360A-4D69-B452-8DB54CB5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DBB9-682E-4C50-98E8-CC3D5428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DD787C-18D6-4406-866A-CD77997169C5}" type="slidenum">
              <a:rPr b="0" lang="en-GB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Grafik 9" descr=""/>
          <p:cNvPicPr/>
          <p:nvPr/>
        </p:nvPicPr>
        <p:blipFill>
          <a:blip r:embed="rId2"/>
          <a:stretch/>
        </p:blipFill>
        <p:spPr>
          <a:xfrm>
            <a:off x="7397640" y="0"/>
            <a:ext cx="1746360" cy="1179360"/>
          </a:xfrm>
          <a:prstGeom prst="rect">
            <a:avLst/>
          </a:prstGeom>
          <a:ln w="0">
            <a:noFill/>
          </a:ln>
        </p:spPr>
      </p:pic>
      <p:pic>
        <p:nvPicPr>
          <p:cNvPr id="6" name="Grafik 11" descr=""/>
          <p:cNvPicPr/>
          <p:nvPr/>
        </p:nvPicPr>
        <p:blipFill>
          <a:blip r:embed="rId3"/>
          <a:stretch/>
        </p:blipFill>
        <p:spPr>
          <a:xfrm>
            <a:off x="0" y="5770440"/>
            <a:ext cx="1590840" cy="2422800"/>
          </a:xfrm>
          <a:prstGeom prst="rect">
            <a:avLst/>
          </a:prstGeom>
          <a:ln w="0">
            <a:noFill/>
          </a:ln>
        </p:spPr>
      </p:pic>
      <p:pic>
        <p:nvPicPr>
          <p:cNvPr id="7" name="Grafik 15" descr=""/>
          <p:cNvPicPr/>
          <p:nvPr/>
        </p:nvPicPr>
        <p:blipFill>
          <a:blip r:embed="rId4"/>
          <a:stretch/>
        </p:blipFill>
        <p:spPr>
          <a:xfrm>
            <a:off x="7845480" y="1027080"/>
            <a:ext cx="1257120" cy="179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5B2E45-5238-4F91-86F4-61CDCAAF6CBF}" type="slidenum">
              <a:rPr b="0" lang="de-DE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D232C6-EBA4-4855-AC50-66EAD359D99F}" type="slidenum"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Grafik 9" descr=""/>
          <p:cNvPicPr/>
          <p:nvPr/>
        </p:nvPicPr>
        <p:blipFill>
          <a:blip r:embed="rId2"/>
          <a:stretch/>
        </p:blipFill>
        <p:spPr>
          <a:xfrm>
            <a:off x="7397640" y="0"/>
            <a:ext cx="1746360" cy="1179360"/>
          </a:xfrm>
          <a:prstGeom prst="rect">
            <a:avLst/>
          </a:prstGeom>
          <a:ln w="0">
            <a:noFill/>
          </a:ln>
        </p:spPr>
      </p:pic>
      <p:pic>
        <p:nvPicPr>
          <p:cNvPr id="91" name="Grafik 11" descr=""/>
          <p:cNvPicPr/>
          <p:nvPr/>
        </p:nvPicPr>
        <p:blipFill>
          <a:blip r:embed="rId3"/>
          <a:stretch/>
        </p:blipFill>
        <p:spPr>
          <a:xfrm>
            <a:off x="0" y="5770440"/>
            <a:ext cx="1590840" cy="2422800"/>
          </a:xfrm>
          <a:prstGeom prst="rect">
            <a:avLst/>
          </a:prstGeom>
          <a:ln w="0">
            <a:noFill/>
          </a:ln>
        </p:spPr>
      </p:pic>
      <p:pic>
        <p:nvPicPr>
          <p:cNvPr id="92" name="Grafik 15" descr=""/>
          <p:cNvPicPr/>
          <p:nvPr/>
        </p:nvPicPr>
        <p:blipFill>
          <a:blip r:embed="rId4"/>
          <a:stretch/>
        </p:blipFill>
        <p:spPr>
          <a:xfrm>
            <a:off x="7845480" y="1027080"/>
            <a:ext cx="1257120" cy="179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Bild 10" descr=""/>
          <p:cNvPicPr/>
          <p:nvPr/>
        </p:nvPicPr>
        <p:blipFill>
          <a:blip r:embed="rId2"/>
          <a:stretch/>
        </p:blipFill>
        <p:spPr>
          <a:xfrm>
            <a:off x="6643800" y="214200"/>
            <a:ext cx="2214360" cy="4096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0" y="6215040"/>
            <a:ext cx="1785960" cy="652320"/>
          </a:xfrm>
          <a:prstGeom prst="rect">
            <a:avLst/>
          </a:prstGeom>
          <a:ln w="0">
            <a:noFill/>
          </a:ln>
        </p:spPr>
      </p:pic>
      <p:pic>
        <p:nvPicPr>
          <p:cNvPr id="169" name="Bild 10" descr=""/>
          <p:cNvPicPr/>
          <p:nvPr/>
        </p:nvPicPr>
        <p:blipFill>
          <a:blip r:embed="rId3"/>
          <a:stretch/>
        </p:blipFill>
        <p:spPr>
          <a:xfrm>
            <a:off x="6786720" y="214200"/>
            <a:ext cx="2058840" cy="3812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5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slideLayout" Target="../slideLayouts/slideLayout25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7.png"/><Relationship Id="rId3" Type="http://schemas.openxmlformats.org/officeDocument/2006/relationships/image" Target="../media/image23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jpeg"/><Relationship Id="rId3" Type="http://schemas.openxmlformats.org/officeDocument/2006/relationships/image" Target="../media/image19.jpe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image" Target="../media/image37.png"/><Relationship Id="rId13" Type="http://schemas.openxmlformats.org/officeDocument/2006/relationships/image" Target="../media/image38.png"/><Relationship Id="rId14" Type="http://schemas.openxmlformats.org/officeDocument/2006/relationships/image" Target="../media/image39.png"/><Relationship Id="rId15" Type="http://schemas.openxmlformats.org/officeDocument/2006/relationships/image" Target="../media/image40.png"/><Relationship Id="rId16" Type="http://schemas.openxmlformats.org/officeDocument/2006/relationships/image" Target="../media/image41.png"/><Relationship Id="rId17" Type="http://schemas.openxmlformats.org/officeDocument/2006/relationships/image" Target="../media/image42.png"/><Relationship Id="rId18" Type="http://schemas.openxmlformats.org/officeDocument/2006/relationships/image" Target="../media/image43.png"/><Relationship Id="rId19" Type="http://schemas.openxmlformats.org/officeDocument/2006/relationships/image" Target="../media/image44.png"/><Relationship Id="rId20" Type="http://schemas.openxmlformats.org/officeDocument/2006/relationships/image" Target="../media/image45.png"/><Relationship Id="rId21" Type="http://schemas.openxmlformats.org/officeDocument/2006/relationships/image" Target="../media/image46.png"/><Relationship Id="rId22" Type="http://schemas.openxmlformats.org/officeDocument/2006/relationships/image" Target="../media/image47.png"/><Relationship Id="rId23" Type="http://schemas.openxmlformats.org/officeDocument/2006/relationships/image" Target="../media/image48.png"/><Relationship Id="rId24" Type="http://schemas.openxmlformats.org/officeDocument/2006/relationships/image" Target="../media/image49.png"/><Relationship Id="rId25" Type="http://schemas.openxmlformats.org/officeDocument/2006/relationships/image" Target="../media/image50.png"/><Relationship Id="rId26" Type="http://schemas.openxmlformats.org/officeDocument/2006/relationships/image" Target="../media/image51.png"/><Relationship Id="rId27" Type="http://schemas.openxmlformats.org/officeDocument/2006/relationships/image" Target="../media/image52.png"/><Relationship Id="rId28" Type="http://schemas.openxmlformats.org/officeDocument/2006/relationships/slideLayout" Target="../slideLayouts/slideLayout25.xml"/><Relationship Id="rId2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jpeg"/><Relationship Id="rId3" Type="http://schemas.openxmlformats.org/officeDocument/2006/relationships/image" Target="../media/image19.jpe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image" Target="../media/image57.png"/><Relationship Id="rId9" Type="http://schemas.openxmlformats.org/officeDocument/2006/relationships/image" Target="../media/image58.png"/><Relationship Id="rId10" Type="http://schemas.openxmlformats.org/officeDocument/2006/relationships/image" Target="../media/image59.png"/><Relationship Id="rId11" Type="http://schemas.openxmlformats.org/officeDocument/2006/relationships/image" Target="../media/image60.png"/><Relationship Id="rId12" Type="http://schemas.openxmlformats.org/officeDocument/2006/relationships/image" Target="../media/image61.png"/><Relationship Id="rId13" Type="http://schemas.openxmlformats.org/officeDocument/2006/relationships/image" Target="../media/image62.png"/><Relationship Id="rId14" Type="http://schemas.openxmlformats.org/officeDocument/2006/relationships/image" Target="../media/image63.png"/><Relationship Id="rId15" Type="http://schemas.openxmlformats.org/officeDocument/2006/relationships/image" Target="../media/image64.png"/><Relationship Id="rId16" Type="http://schemas.openxmlformats.org/officeDocument/2006/relationships/image" Target="../media/image65.png"/><Relationship Id="rId17" Type="http://schemas.openxmlformats.org/officeDocument/2006/relationships/image" Target="../media/image66.png"/><Relationship Id="rId18" Type="http://schemas.openxmlformats.org/officeDocument/2006/relationships/image" Target="../media/image67.png"/><Relationship Id="rId19" Type="http://schemas.openxmlformats.org/officeDocument/2006/relationships/image" Target="../media/image68.png"/><Relationship Id="rId20" Type="http://schemas.openxmlformats.org/officeDocument/2006/relationships/image" Target="../media/image69.png"/><Relationship Id="rId21" Type="http://schemas.openxmlformats.org/officeDocument/2006/relationships/image" Target="../media/image70.png"/><Relationship Id="rId22" Type="http://schemas.openxmlformats.org/officeDocument/2006/relationships/image" Target="../media/image71.png"/><Relationship Id="rId23" Type="http://schemas.openxmlformats.org/officeDocument/2006/relationships/image" Target="../media/image72.png"/><Relationship Id="rId24" Type="http://schemas.openxmlformats.org/officeDocument/2006/relationships/image" Target="../media/image73.png"/><Relationship Id="rId25" Type="http://schemas.openxmlformats.org/officeDocument/2006/relationships/image" Target="../media/image74.png"/><Relationship Id="rId26" Type="http://schemas.openxmlformats.org/officeDocument/2006/relationships/image" Target="../media/image75.png"/><Relationship Id="rId27" Type="http://schemas.openxmlformats.org/officeDocument/2006/relationships/image" Target="../media/image76.png"/><Relationship Id="rId28" Type="http://schemas.openxmlformats.org/officeDocument/2006/relationships/slideLayout" Target="../slideLayouts/slideLayout25.xml"/><Relationship Id="rId2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hteck 5"/>
          <p:cNvSpPr/>
          <p:nvPr/>
        </p:nvSpPr>
        <p:spPr>
          <a:xfrm>
            <a:off x="1141560" y="2755800"/>
            <a:ext cx="6823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44546a"/>
                </a:solidFill>
                <a:latin typeface="Verdana"/>
              </a:rPr>
              <a:t>WARTOŚCI A EU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1" lang="de-DE" sz="2800" spc="-1" strike="noStrike">
                <a:solidFill>
                  <a:srgbClr val="7fa4e7"/>
                </a:solidFill>
                <a:latin typeface="Verdana"/>
              </a:rPr>
              <a:t>WARTOŚCI </a:t>
            </a:r>
            <a:r>
              <a:rPr b="1" lang="pl-PL" sz="2800" spc="-1" strike="noStrike">
                <a:solidFill>
                  <a:srgbClr val="7fa4e7"/>
                </a:solidFill>
                <a:latin typeface="Verdana"/>
              </a:rPr>
              <a:t>A</a:t>
            </a:r>
            <a:r>
              <a:rPr b="1" lang="de-DE" sz="2800" spc="-1" strike="noStrike">
                <a:solidFill>
                  <a:srgbClr val="7fa4e7"/>
                </a:solidFill>
                <a:latin typeface="Verdana"/>
              </a:rPr>
              <a:t> </a:t>
            </a:r>
            <a:r>
              <a:rPr b="1" lang="pl-PL" sz="2800" spc="-1" strike="noStrike">
                <a:solidFill>
                  <a:srgbClr val="7fa4e7"/>
                </a:solidFill>
                <a:latin typeface="Verdana"/>
              </a:rPr>
              <a:t>ST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feld 9"/>
          <p:cNvSpPr/>
          <p:nvPr/>
        </p:nvSpPr>
        <p:spPr>
          <a:xfrm>
            <a:off x="822240" y="1415880"/>
            <a:ext cx="7529760" cy="43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7fa4e7"/>
                </a:solidFill>
                <a:latin typeface="Verdana"/>
              </a:rPr>
              <a:t>PROCEDURA GRY NA KAŻDĄ RUND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800"/>
              </a:spcBef>
              <a:buClr>
                <a:srgbClr val="44546a"/>
              </a:buClr>
              <a:buFont typeface="Verdan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l-PL" sz="1800" spc="-1" strike="noStrike">
                <a:solidFill>
                  <a:srgbClr val="44546a"/>
                </a:solidFill>
                <a:latin typeface="Verdana"/>
                <a:ea typeface="ＭＳ Ｐゴシック"/>
              </a:rPr>
              <a:t>Najmłodsza osoba odczytuje na głos profil kraj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800"/>
              </a:spcBef>
              <a:buClr>
                <a:srgbClr val="44546a"/>
              </a:buClr>
              <a:buFont typeface="Verdan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l-PL" sz="1800" spc="-1" strike="noStrike">
                <a:solidFill>
                  <a:srgbClr val="44546a"/>
                </a:solidFill>
                <a:latin typeface="Verdana"/>
                <a:ea typeface="ＭＳ Ｐゴシック"/>
              </a:rPr>
              <a:t>Najniższa osoba bierze pierwszą kartę zdarzenia i odczytuje ją na gł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800"/>
              </a:spcBef>
              <a:buClr>
                <a:srgbClr val="44546a"/>
              </a:buClr>
              <a:buFont typeface="Verdan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l-PL" sz="1800" spc="-1" strike="noStrike">
                <a:solidFill>
                  <a:srgbClr val="44546a"/>
                </a:solidFill>
                <a:latin typeface="Verdana"/>
                <a:ea typeface="ＭＳ Ｐゴシック"/>
              </a:rPr>
              <a:t>Cała grupa omawia sprawę z perspektywy różnych postaci. </a:t>
            </a:r>
            <a:r>
              <a:rPr b="1" lang="pl-PL" sz="1800" spc="-1" strike="noStrike">
                <a:solidFill>
                  <a:srgbClr val="44546a"/>
                </a:solidFill>
                <a:latin typeface="Verdana"/>
                <a:ea typeface="ＭＳ Ｐゴシック"/>
              </a:rPr>
              <a:t>Czy uważasz, że decyzja państwa jest </a:t>
            </a:r>
            <a:r>
              <a:rPr b="1" lang="pl-PL" sz="1800" spc="-1" strike="noStrike">
                <a:solidFill>
                  <a:srgbClr val="a9d18e"/>
                </a:solidFill>
                <a:latin typeface="Verdana"/>
                <a:ea typeface="ＭＳ Ｐゴシック"/>
              </a:rPr>
              <a:t>dobra</a:t>
            </a:r>
            <a:r>
              <a:rPr b="1" lang="pl-PL" sz="1800" spc="-1" strike="noStrike">
                <a:solidFill>
                  <a:srgbClr val="44546a"/>
                </a:solidFill>
                <a:latin typeface="Verdana"/>
                <a:ea typeface="ＭＳ Ｐゴシック"/>
              </a:rPr>
              <a:t> czy </a:t>
            </a:r>
            <a:r>
              <a:rPr b="1" lang="pl-PL" sz="1800" spc="-1" strike="noStrike">
                <a:solidFill>
                  <a:srgbClr val="ff7c80"/>
                </a:solidFill>
                <a:latin typeface="Verdana"/>
                <a:ea typeface="ＭＳ Ｐゴシック"/>
              </a:rPr>
              <a:t>zła</a:t>
            </a:r>
            <a:r>
              <a:rPr b="1" lang="pl-PL" sz="1800" spc="-1" strike="noStrike">
                <a:solidFill>
                  <a:srgbClr val="44546a"/>
                </a:solidFill>
                <a:latin typeface="Verdana"/>
                <a:ea typeface="ＭＳ Ｐゴシック"/>
              </a:rPr>
              <a:t>? Dlaczeg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800"/>
              </a:spcBef>
              <a:buClr>
                <a:srgbClr val="44546a"/>
              </a:buClr>
              <a:buFont typeface="Verdan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l-PL" sz="1800" spc="-1" strike="noStrike">
                <a:solidFill>
                  <a:srgbClr val="44546a"/>
                </a:solidFill>
                <a:latin typeface="Verdana"/>
                <a:ea typeface="ＭＳ Ｐゴシック"/>
              </a:rPr>
              <a:t>Każdy gracz przesuwa swój pionek o jedno pole w górę lub w dół, w zależności od twojej opin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800"/>
              </a:spcBef>
              <a:buClr>
                <a:srgbClr val="44546a"/>
              </a:buClr>
              <a:buFont typeface="Verdan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l-PL" sz="1800" spc="-1" strike="noStrike">
                <a:solidFill>
                  <a:srgbClr val="44546a"/>
                </a:solidFill>
                <a:latin typeface="Verdana"/>
                <a:ea typeface="ＭＳ Ｐゴシック"/>
              </a:rPr>
              <a:t>Punkty 2- 4 są powtarzane (maksymalnie 6 zdarzeń, 20 mi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hteck: abgerundete Ecken 11"/>
          <p:cNvSpPr/>
          <p:nvPr/>
        </p:nvSpPr>
        <p:spPr>
          <a:xfrm>
            <a:off x="539640" y="-100080"/>
            <a:ext cx="2556000" cy="64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e9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600" spc="-1" strike="noStrike">
                <a:solidFill>
                  <a:srgbClr val="e98080"/>
                </a:solidFill>
                <a:latin typeface="Verdana"/>
              </a:rPr>
              <a:t>ZADANIA KAŻDEGO Z KRAJ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feld 3"/>
          <p:cNvSpPr/>
          <p:nvPr/>
        </p:nvSpPr>
        <p:spPr>
          <a:xfrm>
            <a:off x="539640" y="1362240"/>
            <a:ext cx="807876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7fa4e7"/>
                </a:solidFill>
                <a:latin typeface="Verdana"/>
              </a:rPr>
              <a:t>PROCEDURA GRY NA KAŻDĄ RUND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800"/>
              </a:spcBef>
              <a:buClr>
                <a:srgbClr val="44546a"/>
              </a:buClr>
              <a:buFont typeface="Verdana"/>
              <a:buAutoNum type="arabicPeriod" startAt="5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l-PL" sz="1800" spc="-1" strike="noStrike">
                <a:solidFill>
                  <a:srgbClr val="44546a"/>
                </a:solidFill>
                <a:latin typeface="Verdana"/>
                <a:ea typeface="ＭＳ Ｐゴシック"/>
              </a:rPr>
              <a:t>Zapisz swoje doświadczenia na arkuszu ćwiczeń (indywidualnie).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44546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99"/>
              </a:spcBef>
              <a:buClr>
                <a:srgbClr val="44546a"/>
              </a:buClr>
              <a:buFont typeface="Verdana"/>
              <a:buAutoNum type="arabicPeriod" startAt="5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99"/>
              </a:spcBef>
              <a:buClr>
                <a:srgbClr val="44546a"/>
              </a:buClr>
              <a:buFont typeface="Verdana"/>
              <a:buAutoNum type="arabicPeriod" startAt="5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99"/>
              </a:spcBef>
              <a:buClr>
                <a:srgbClr val="44546a"/>
              </a:buClr>
              <a:buFont typeface="Verdana"/>
              <a:buAutoNum type="arabicPeriod" startAt="5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99"/>
              </a:spcBef>
              <a:buClr>
                <a:srgbClr val="44546a"/>
              </a:buClr>
              <a:buFont typeface="Verdana"/>
              <a:buAutoNum type="arabicPeriod" startAt="5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99"/>
              </a:spcBef>
              <a:buClr>
                <a:srgbClr val="44546a"/>
              </a:buClr>
              <a:buFont typeface="Verdana"/>
              <a:buAutoNum type="arabicPeriod" startAt="5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99"/>
              </a:spcBef>
              <a:buClr>
                <a:srgbClr val="44546a"/>
              </a:buClr>
              <a:buFont typeface="Verdana"/>
              <a:buAutoNum type="arabicPeriod" startAt="5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l-PL" sz="1800" spc="-1" strike="noStrike">
                <a:solidFill>
                  <a:srgbClr val="44546a"/>
                </a:solidFill>
                <a:latin typeface="Verdana"/>
                <a:ea typeface="ＭＳ Ｐゴシック"/>
              </a:rPr>
              <a:t>Cała grupa przenosi się do następnego kraj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Grafik 6" descr=""/>
          <p:cNvPicPr/>
          <p:nvPr/>
        </p:nvPicPr>
        <p:blipFill>
          <a:blip r:embed="rId1"/>
          <a:stretch/>
        </p:blipFill>
        <p:spPr>
          <a:xfrm>
            <a:off x="1542960" y="2795760"/>
            <a:ext cx="5550120" cy="259236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323e53">
                <a:alpha val="30000"/>
              </a:srgbClr>
            </a:outerShdw>
          </a:effectLst>
        </p:spPr>
      </p:pic>
      <p:sp>
        <p:nvSpPr>
          <p:cNvPr id="362" name="Rechteck: abgerundete Ecken 7"/>
          <p:cNvSpPr/>
          <p:nvPr/>
        </p:nvSpPr>
        <p:spPr>
          <a:xfrm>
            <a:off x="539640" y="-100080"/>
            <a:ext cx="256860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e9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600" spc="-1" strike="noStrike">
                <a:solidFill>
                  <a:srgbClr val="e98080"/>
                </a:solidFill>
                <a:latin typeface="Verdana"/>
              </a:rPr>
              <a:t>ZADANIA KAŻDEGO Z KRAJ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hteck: abgerundete Ecken 24"/>
          <p:cNvSpPr/>
          <p:nvPr/>
        </p:nvSpPr>
        <p:spPr>
          <a:xfrm>
            <a:off x="539640" y="-100080"/>
            <a:ext cx="2559240" cy="646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e9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600" spc="-1" strike="noStrike">
                <a:solidFill>
                  <a:srgbClr val="e98080"/>
                </a:solidFill>
                <a:latin typeface="Verdana"/>
              </a:rPr>
              <a:t>DYSKUS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feld 4"/>
          <p:cNvSpPr/>
          <p:nvPr/>
        </p:nvSpPr>
        <p:spPr>
          <a:xfrm>
            <a:off x="539640" y="2486160"/>
            <a:ext cx="80787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44546a"/>
                </a:solidFill>
                <a:latin typeface="Verdana"/>
              </a:rPr>
              <a:t>Wyjdź z roli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l-PL" sz="2800" spc="-1" strike="noStrike">
                <a:solidFill>
                  <a:srgbClr val="44546a"/>
                </a:solidFill>
                <a:latin typeface="Verdana"/>
              </a:rPr>
              <a:t>Jak się czułeś/ czułaś podczas g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feld 5"/>
          <p:cNvSpPr/>
          <p:nvPr/>
        </p:nvSpPr>
        <p:spPr>
          <a:xfrm>
            <a:off x="539640" y="2087640"/>
            <a:ext cx="807876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8faadc"/>
                </a:solidFill>
                <a:latin typeface="Verdana"/>
              </a:rPr>
              <a:t>SPOTKANIE</a:t>
            </a:r>
            <a:r>
              <a:rPr b="0" lang="pl-PL" sz="2400" spc="-1" strike="noStrike">
                <a:solidFill>
                  <a:srgbClr val="7fa4e7"/>
                </a:solidFill>
                <a:latin typeface="Verdana"/>
              </a:rPr>
              <a:t> W GRUPACH POSTAC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800" spc="-1" strike="noStrike">
                <a:solidFill>
                  <a:srgbClr val="44546a"/>
                </a:solidFill>
                <a:latin typeface="Verdana"/>
              </a:rPr>
              <a:t>Podziel się swoimi doświadczeniami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l-PL" sz="2800" spc="-1" strike="noStrike">
                <a:solidFill>
                  <a:srgbClr val="44546a"/>
                </a:solidFill>
                <a:latin typeface="Verdana"/>
              </a:rPr>
              <a:t>W którym kraju czułeś / czułaś się szczególnie swobodnie</a:t>
            </a:r>
            <a:r>
              <a:rPr b="1" i="1" lang="de-DE" sz="2800" spc="-1" strike="noStrike">
                <a:solidFill>
                  <a:srgbClr val="44546a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hteck: abgerundete Ecken 24"/>
          <p:cNvSpPr/>
          <p:nvPr/>
        </p:nvSpPr>
        <p:spPr>
          <a:xfrm>
            <a:off x="539640" y="-100080"/>
            <a:ext cx="2559240" cy="646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e9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600" spc="-1" strike="noStrike">
                <a:solidFill>
                  <a:srgbClr val="e98080"/>
                </a:solidFill>
                <a:latin typeface="Verdana"/>
              </a:rPr>
              <a:t>DYSKUS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feld 9"/>
          <p:cNvSpPr/>
          <p:nvPr/>
        </p:nvSpPr>
        <p:spPr>
          <a:xfrm>
            <a:off x="720720" y="1763640"/>
            <a:ext cx="737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44546a"/>
                </a:solidFill>
                <a:latin typeface="Verdana"/>
                <a:ea typeface="ＭＳ Ｐゴシック"/>
              </a:rPr>
              <a:t>Jakie wartości były szczególnie ważne w tych krajac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hteck 10"/>
          <p:cNvSpPr/>
          <p:nvPr/>
        </p:nvSpPr>
        <p:spPr>
          <a:xfrm>
            <a:off x="1304280" y="51544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l-PL" sz="1800" spc="-1" strike="noStrike">
                <a:solidFill>
                  <a:srgbClr val="323e53"/>
                </a:solidFill>
                <a:latin typeface="Verdana"/>
                <a:ea typeface="ＭＳ Ｐゴシック"/>
              </a:rPr>
              <a:t>WOLN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l-PL" sz="1800" spc="-1" strike="noStrike">
                <a:solidFill>
                  <a:srgbClr val="323e53"/>
                </a:solidFill>
                <a:latin typeface="Verdana"/>
                <a:ea typeface="ＭＳ Ｐゴシック"/>
              </a:rPr>
              <a:t>TOLERAN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hteck 11"/>
          <p:cNvSpPr/>
          <p:nvPr/>
        </p:nvSpPr>
        <p:spPr>
          <a:xfrm>
            <a:off x="3503160" y="5162400"/>
            <a:ext cx="17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l-PL" sz="1800" spc="-1" strike="noStrike">
                <a:solidFill>
                  <a:srgbClr val="323e53"/>
                </a:solidFill>
                <a:latin typeface="Verdana"/>
                <a:ea typeface="ＭＳ Ｐゴシック"/>
              </a:rPr>
              <a:t>SOLIDARN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l-PL" sz="1800" spc="-1" strike="noStrike">
                <a:solidFill>
                  <a:srgbClr val="323e53"/>
                </a:solidFill>
                <a:latin typeface="Verdana"/>
                <a:ea typeface="ＭＳ Ｐゴシック"/>
              </a:rPr>
              <a:t>RÓWN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hteck 18"/>
          <p:cNvSpPr/>
          <p:nvPr/>
        </p:nvSpPr>
        <p:spPr>
          <a:xfrm>
            <a:off x="5676840" y="5154480"/>
            <a:ext cx="209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l-PL" sz="1800" spc="-1" strike="noStrike">
                <a:solidFill>
                  <a:srgbClr val="323e53"/>
                </a:solidFill>
                <a:latin typeface="Verdana"/>
                <a:ea typeface="ＭＳ Ｐゴシック"/>
              </a:rPr>
              <a:t>BEZPIECZEŃS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l-PL" sz="1800" spc="-1" strike="noStrike">
                <a:solidFill>
                  <a:srgbClr val="323e53"/>
                </a:solidFill>
                <a:latin typeface="Verdana"/>
                <a:ea typeface="ＭＳ Ｐゴシック"/>
              </a:rPr>
              <a:t>TRADY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Grafik 12" descr="Hier wird das Armenviertel vom Reichenviertel lediglich von einer StraÃe getrennt."/>
          <p:cNvPicPr/>
          <p:nvPr/>
        </p:nvPicPr>
        <p:blipFill>
          <a:blip r:embed="rId1"/>
          <a:srcRect l="0" t="2272" r="0" b="2272"/>
          <a:stretch/>
        </p:blipFill>
        <p:spPr>
          <a:xfrm>
            <a:off x="1138320" y="2462040"/>
            <a:ext cx="1908000" cy="1906920"/>
          </a:xfrm>
          <a:prstGeom prst="rect">
            <a:avLst/>
          </a:prstGeom>
          <a:ln w="0">
            <a:noFill/>
          </a:ln>
        </p:spPr>
      </p:pic>
      <p:sp>
        <p:nvSpPr>
          <p:cNvPr id="372" name="Rechteck 13"/>
          <p:cNvSpPr/>
          <p:nvPr/>
        </p:nvSpPr>
        <p:spPr>
          <a:xfrm>
            <a:off x="1112760" y="4577400"/>
            <a:ext cx="19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7fa4e7"/>
                </a:solidFill>
                <a:latin typeface="Verdana"/>
                <a:ea typeface="ＭＳ Ｐゴシック"/>
              </a:rPr>
              <a:t>GAGO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Grafik 14" descr=""/>
          <p:cNvPicPr/>
          <p:nvPr/>
        </p:nvPicPr>
        <p:blipFill>
          <a:blip r:embed="rId2"/>
          <a:srcRect l="21875" t="0" r="21875" b="0"/>
          <a:stretch/>
        </p:blipFill>
        <p:spPr>
          <a:xfrm>
            <a:off x="3448080" y="2462040"/>
            <a:ext cx="1908000" cy="1906920"/>
          </a:xfrm>
          <a:prstGeom prst="rect">
            <a:avLst/>
          </a:prstGeom>
          <a:ln w="0">
            <a:noFill/>
          </a:ln>
        </p:spPr>
      </p:pic>
      <p:sp>
        <p:nvSpPr>
          <p:cNvPr id="374" name="Rechteck 15"/>
          <p:cNvSpPr/>
          <p:nvPr/>
        </p:nvSpPr>
        <p:spPr>
          <a:xfrm>
            <a:off x="3720240" y="458136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ea8080"/>
                </a:solidFill>
                <a:latin typeface="Verdana"/>
                <a:ea typeface="ＭＳ Ｐゴシック"/>
              </a:rPr>
              <a:t>FONT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Grafik 16" descr="Perth, Australien, Stadt, Städte, Café, Geschäfte"/>
          <p:cNvPicPr/>
          <p:nvPr/>
        </p:nvPicPr>
        <p:blipFill>
          <a:blip r:embed="rId3"/>
          <a:srcRect l="2510" t="0" r="36140" b="0"/>
          <a:stretch/>
        </p:blipFill>
        <p:spPr>
          <a:xfrm>
            <a:off x="5746680" y="2462040"/>
            <a:ext cx="1908360" cy="1906920"/>
          </a:xfrm>
          <a:prstGeom prst="rect">
            <a:avLst/>
          </a:prstGeom>
          <a:ln w="0">
            <a:noFill/>
          </a:ln>
        </p:spPr>
      </p:pic>
      <p:sp>
        <p:nvSpPr>
          <p:cNvPr id="376" name="Rechteck 17"/>
          <p:cNvSpPr/>
          <p:nvPr/>
        </p:nvSpPr>
        <p:spPr>
          <a:xfrm>
            <a:off x="6026040" y="459648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9f8db6"/>
                </a:solidFill>
                <a:latin typeface="Verdana"/>
                <a:ea typeface="ＭＳ Ｐゴシック"/>
              </a:rPr>
              <a:t>LIN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hteck: abgerundete Ecken 24"/>
          <p:cNvSpPr/>
          <p:nvPr/>
        </p:nvSpPr>
        <p:spPr>
          <a:xfrm>
            <a:off x="539640" y="-100080"/>
            <a:ext cx="2559240" cy="646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e9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600" spc="-1" strike="noStrike">
                <a:solidFill>
                  <a:srgbClr val="e98080"/>
                </a:solidFill>
                <a:latin typeface="Verdana"/>
              </a:rPr>
              <a:t>DYSKUS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hteck: abgerundete Ecken 24"/>
          <p:cNvSpPr/>
          <p:nvPr/>
        </p:nvSpPr>
        <p:spPr>
          <a:xfrm>
            <a:off x="539640" y="-100080"/>
            <a:ext cx="2559240" cy="646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e9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600" spc="-1" strike="noStrike">
                <a:solidFill>
                  <a:srgbClr val="e98080"/>
                </a:solidFill>
                <a:latin typeface="Verdana"/>
              </a:rPr>
              <a:t>DYSKUS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Ellipse 11"/>
          <p:cNvSpPr/>
          <p:nvPr/>
        </p:nvSpPr>
        <p:spPr>
          <a:xfrm>
            <a:off x="979560" y="852480"/>
            <a:ext cx="7200720" cy="5640480"/>
          </a:xfrm>
          <a:prstGeom prst="ellipse">
            <a:avLst/>
          </a:prstGeom>
          <a:solidFill>
            <a:srgbClr val="323e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llipse 8"/>
          <p:cNvSpPr/>
          <p:nvPr/>
        </p:nvSpPr>
        <p:spPr>
          <a:xfrm>
            <a:off x="1884240" y="2246400"/>
            <a:ext cx="5400720" cy="4230720"/>
          </a:xfrm>
          <a:prstGeom prst="ellipse">
            <a:avLst/>
          </a:prstGeom>
          <a:solidFill>
            <a:srgbClr val="ea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Ellipse 8"/>
          <p:cNvSpPr/>
          <p:nvPr/>
        </p:nvSpPr>
        <p:spPr>
          <a:xfrm>
            <a:off x="2786040" y="3684600"/>
            <a:ext cx="3598920" cy="2819520"/>
          </a:xfrm>
          <a:prstGeom prst="ellipse">
            <a:avLst/>
          </a:prstGeom>
          <a:solidFill>
            <a:srgbClr val="7fa4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hteck 19"/>
          <p:cNvSpPr/>
          <p:nvPr/>
        </p:nvSpPr>
        <p:spPr>
          <a:xfrm>
            <a:off x="3571200" y="4387680"/>
            <a:ext cx="202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WARTOŚ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INDYWIDUAL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hteck 21"/>
          <p:cNvSpPr/>
          <p:nvPr/>
        </p:nvSpPr>
        <p:spPr>
          <a:xfrm>
            <a:off x="3163320" y="2779560"/>
            <a:ext cx="28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WARTOŚCI NAROD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hteck 18"/>
          <p:cNvSpPr/>
          <p:nvPr/>
        </p:nvSpPr>
        <p:spPr>
          <a:xfrm>
            <a:off x="3061440" y="1498680"/>
            <a:ext cx="30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Verdana"/>
              </a:rPr>
              <a:t>WARTOŚCI EUROPEJSKIE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Gewitterblitz 19"/>
          <p:cNvSpPr/>
          <p:nvPr/>
        </p:nvSpPr>
        <p:spPr>
          <a:xfrm rot="2988000">
            <a:off x="4157280" y="3283920"/>
            <a:ext cx="801720" cy="970200"/>
          </a:xfrm>
          <a:prstGeom prst="lightningBol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Graphic 11" descr="Tongue face with solid fill"/>
          <p:cNvPicPr/>
          <p:nvPr/>
        </p:nvPicPr>
        <p:blipFill>
          <a:blip r:embed="rId1"/>
          <a:stretch/>
        </p:blipFill>
        <p:spPr>
          <a:xfrm>
            <a:off x="3624120" y="496584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87" name="Graphic 12" descr="Tongue face with no fill"/>
          <p:cNvPicPr/>
          <p:nvPr/>
        </p:nvPicPr>
        <p:blipFill>
          <a:blip r:embed="rId2"/>
          <a:stretch/>
        </p:blipFill>
        <p:spPr>
          <a:xfrm>
            <a:off x="4586400" y="496584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Untertitel 2"/>
          <p:cNvSpPr/>
          <p:nvPr/>
        </p:nvSpPr>
        <p:spPr>
          <a:xfrm>
            <a:off x="1143000" y="2843280"/>
            <a:ext cx="685800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l-PL" sz="2400" spc="-1" strike="noStrike">
                <a:solidFill>
                  <a:srgbClr val="44546a"/>
                </a:solidFill>
                <a:latin typeface="Verdana"/>
                <a:ea typeface="Verdana"/>
              </a:rPr>
              <a:t>WARTOŚCI A EUROP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de-DE" sz="2800" spc="-1" strike="noStrike">
                <a:solidFill>
                  <a:srgbClr val="8faadc"/>
                </a:solidFill>
                <a:latin typeface="Verdana"/>
                <a:ea typeface="Verdana"/>
              </a:rPr>
              <a:t>DZIĘKUJĘ</a:t>
            </a:r>
            <a:r>
              <a:rPr b="1" lang="pl-PL" sz="2800" spc="-1" strike="noStrike">
                <a:solidFill>
                  <a:srgbClr val="8faadc"/>
                </a:solidFill>
                <a:latin typeface="Verdana"/>
                <a:ea typeface="Verdana"/>
              </a:rPr>
              <a:t>MY</a:t>
            </a:r>
            <a:r>
              <a:rPr b="1" lang="de-DE" sz="2800" spc="-1" strike="noStrike">
                <a:solidFill>
                  <a:srgbClr val="8faadc"/>
                </a:solidFill>
                <a:latin typeface="Verdana"/>
                <a:ea typeface="Verdana"/>
              </a:rPr>
              <a:t> ZA UDZIA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hteck: abgerundete Ecken 20"/>
          <p:cNvSpPr/>
          <p:nvPr/>
        </p:nvSpPr>
        <p:spPr>
          <a:xfrm>
            <a:off x="539640" y="-100080"/>
            <a:ext cx="2556000" cy="64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e9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600" spc="-1" strike="noStrike">
                <a:solidFill>
                  <a:srgbClr val="e98080"/>
                </a:solidFill>
                <a:latin typeface="Verdana"/>
              </a:rPr>
              <a:t>WPROWADZENIE</a:t>
            </a:r>
            <a:r>
              <a:rPr b="0" lang="de-DE" sz="1600" spc="-1" strike="noStrike">
                <a:solidFill>
                  <a:srgbClr val="e9808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Ellipse 8"/>
          <p:cNvSpPr/>
          <p:nvPr/>
        </p:nvSpPr>
        <p:spPr>
          <a:xfrm>
            <a:off x="1884240" y="1681200"/>
            <a:ext cx="5400720" cy="4230720"/>
          </a:xfrm>
          <a:prstGeom prst="ellipse">
            <a:avLst/>
          </a:prstGeom>
          <a:solidFill>
            <a:srgbClr val="ea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Ellipse 8"/>
          <p:cNvSpPr/>
          <p:nvPr/>
        </p:nvSpPr>
        <p:spPr>
          <a:xfrm>
            <a:off x="2419200" y="3117960"/>
            <a:ext cx="4189680" cy="2820960"/>
          </a:xfrm>
          <a:prstGeom prst="ellipse">
            <a:avLst/>
          </a:prstGeom>
          <a:solidFill>
            <a:srgbClr val="7fa4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hteck 19"/>
          <p:cNvSpPr/>
          <p:nvPr/>
        </p:nvSpPr>
        <p:spPr>
          <a:xfrm>
            <a:off x="2939040" y="3892680"/>
            <a:ext cx="328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INDYWIDUALNE WARTOŚ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hteck 21"/>
          <p:cNvSpPr/>
          <p:nvPr/>
        </p:nvSpPr>
        <p:spPr>
          <a:xfrm>
            <a:off x="3163320" y="2214720"/>
            <a:ext cx="28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WARTOŚCI NAROD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Graphic 2" descr="Tongue face with solid fill"/>
          <p:cNvPicPr/>
          <p:nvPr/>
        </p:nvPicPr>
        <p:blipFill>
          <a:blip r:embed="rId1"/>
          <a:stretch/>
        </p:blipFill>
        <p:spPr>
          <a:xfrm>
            <a:off x="3624120" y="432576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222" name="Gewitterblitz 25"/>
          <p:cNvSpPr/>
          <p:nvPr/>
        </p:nvSpPr>
        <p:spPr>
          <a:xfrm rot="2988000">
            <a:off x="4158000" y="2718360"/>
            <a:ext cx="799920" cy="970200"/>
          </a:xfrm>
          <a:prstGeom prst="lightningBol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Graphic 4" descr="Tongue face with no fill"/>
          <p:cNvPicPr/>
          <p:nvPr/>
        </p:nvPicPr>
        <p:blipFill>
          <a:blip r:embed="rId2"/>
          <a:stretch/>
        </p:blipFill>
        <p:spPr>
          <a:xfrm>
            <a:off x="4586400" y="432576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Grafik 8" descr=""/>
          <p:cNvPicPr/>
          <p:nvPr/>
        </p:nvPicPr>
        <p:blipFill>
          <a:blip r:embed="rId1"/>
          <a:stretch/>
        </p:blipFill>
        <p:spPr>
          <a:xfrm>
            <a:off x="1181160" y="2413080"/>
            <a:ext cx="1473120" cy="2895480"/>
          </a:xfrm>
          <a:prstGeom prst="rect">
            <a:avLst/>
          </a:prstGeom>
          <a:ln w="0">
            <a:noFill/>
          </a:ln>
        </p:spPr>
      </p:pic>
      <p:pic>
        <p:nvPicPr>
          <p:cNvPr id="225" name="Grafik 9" descr=""/>
          <p:cNvPicPr/>
          <p:nvPr/>
        </p:nvPicPr>
        <p:blipFill>
          <a:blip r:embed="rId2"/>
          <a:stretch/>
        </p:blipFill>
        <p:spPr>
          <a:xfrm>
            <a:off x="2908440" y="2413080"/>
            <a:ext cx="1536480" cy="2895480"/>
          </a:xfrm>
          <a:prstGeom prst="rect">
            <a:avLst/>
          </a:prstGeom>
          <a:ln w="0">
            <a:noFill/>
          </a:ln>
        </p:spPr>
      </p:pic>
      <p:pic>
        <p:nvPicPr>
          <p:cNvPr id="226" name="Grafik 10" descr=""/>
          <p:cNvPicPr/>
          <p:nvPr/>
        </p:nvPicPr>
        <p:blipFill>
          <a:blip r:embed="rId3"/>
          <a:stretch/>
        </p:blipFill>
        <p:spPr>
          <a:xfrm>
            <a:off x="4699080" y="2400480"/>
            <a:ext cx="1473120" cy="2895480"/>
          </a:xfrm>
          <a:prstGeom prst="rect">
            <a:avLst/>
          </a:prstGeom>
          <a:ln w="0">
            <a:noFill/>
          </a:ln>
        </p:spPr>
      </p:pic>
      <p:pic>
        <p:nvPicPr>
          <p:cNvPr id="227" name="Grafik 11" descr=""/>
          <p:cNvPicPr/>
          <p:nvPr/>
        </p:nvPicPr>
        <p:blipFill>
          <a:blip r:embed="rId4"/>
          <a:stretch/>
        </p:blipFill>
        <p:spPr>
          <a:xfrm>
            <a:off x="6413400" y="2413080"/>
            <a:ext cx="1486080" cy="2895480"/>
          </a:xfrm>
          <a:prstGeom prst="rect">
            <a:avLst/>
          </a:prstGeom>
          <a:ln w="0">
            <a:noFill/>
          </a:ln>
        </p:spPr>
      </p:pic>
      <p:pic>
        <p:nvPicPr>
          <p:cNvPr id="228" name="Grafik 12" descr=""/>
          <p:cNvPicPr/>
          <p:nvPr/>
        </p:nvPicPr>
        <p:blipFill>
          <a:blip r:embed="rId5"/>
          <a:stretch/>
        </p:blipFill>
        <p:spPr>
          <a:xfrm>
            <a:off x="1689120" y="4317840"/>
            <a:ext cx="1473120" cy="2921040"/>
          </a:xfrm>
          <a:prstGeom prst="rect">
            <a:avLst/>
          </a:prstGeom>
          <a:ln w="0">
            <a:noFill/>
          </a:ln>
        </p:spPr>
      </p:pic>
      <p:pic>
        <p:nvPicPr>
          <p:cNvPr id="229" name="Grafik 19" descr=""/>
          <p:cNvPicPr/>
          <p:nvPr/>
        </p:nvPicPr>
        <p:blipFill>
          <a:blip r:embed="rId6"/>
          <a:stretch/>
        </p:blipFill>
        <p:spPr>
          <a:xfrm>
            <a:off x="3251160" y="4317840"/>
            <a:ext cx="1486080" cy="2921040"/>
          </a:xfrm>
          <a:prstGeom prst="rect">
            <a:avLst/>
          </a:prstGeom>
          <a:ln w="0">
            <a:noFill/>
          </a:ln>
        </p:spPr>
      </p:pic>
      <p:pic>
        <p:nvPicPr>
          <p:cNvPr id="230" name="Grafik 20" descr=""/>
          <p:cNvPicPr/>
          <p:nvPr/>
        </p:nvPicPr>
        <p:blipFill>
          <a:blip r:embed="rId7"/>
          <a:stretch/>
        </p:blipFill>
        <p:spPr>
          <a:xfrm>
            <a:off x="4978440" y="4317840"/>
            <a:ext cx="1473120" cy="2921040"/>
          </a:xfrm>
          <a:prstGeom prst="rect">
            <a:avLst/>
          </a:prstGeom>
          <a:ln w="0">
            <a:noFill/>
          </a:ln>
        </p:spPr>
      </p:pic>
      <p:pic>
        <p:nvPicPr>
          <p:cNvPr id="231" name="Grafik 21" descr=""/>
          <p:cNvPicPr/>
          <p:nvPr/>
        </p:nvPicPr>
        <p:blipFill>
          <a:blip r:embed="rId8"/>
          <a:stretch/>
        </p:blipFill>
        <p:spPr>
          <a:xfrm>
            <a:off x="6705720" y="4317840"/>
            <a:ext cx="1473120" cy="2921040"/>
          </a:xfrm>
          <a:prstGeom prst="rect">
            <a:avLst/>
          </a:prstGeom>
          <a:ln w="0">
            <a:noFill/>
          </a:ln>
        </p:spPr>
      </p:pic>
      <p:sp>
        <p:nvSpPr>
          <p:cNvPr id="232" name="Textfeld 22"/>
          <p:cNvSpPr/>
          <p:nvPr/>
        </p:nvSpPr>
        <p:spPr>
          <a:xfrm>
            <a:off x="720720" y="1619280"/>
            <a:ext cx="71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44546a"/>
                </a:solidFill>
                <a:latin typeface="Verdana"/>
                <a:ea typeface="ＭＳ Ｐゴシック"/>
              </a:rPr>
              <a:t>Wcielasz się w rolę </a:t>
            </a:r>
            <a:r>
              <a:rPr b="0" lang="pl-PL" sz="1800" spc="-1" strike="noStrike">
                <a:solidFill>
                  <a:srgbClr val="44546a"/>
                </a:solidFill>
                <a:latin typeface="Verdana"/>
                <a:ea typeface="ＭＳ Ｐゴシック"/>
              </a:rPr>
              <a:t>jednej z ośmiu różnych postaci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hteck: abgerundete Ecken 24"/>
          <p:cNvSpPr/>
          <p:nvPr/>
        </p:nvSpPr>
        <p:spPr>
          <a:xfrm>
            <a:off x="539640" y="-100080"/>
            <a:ext cx="2556000" cy="64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e9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600" spc="-1" strike="noStrike">
                <a:solidFill>
                  <a:srgbClr val="e98080"/>
                </a:solidFill>
                <a:latin typeface="Verdana"/>
              </a:rPr>
              <a:t>TRYB G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feld 9"/>
          <p:cNvSpPr/>
          <p:nvPr/>
        </p:nvSpPr>
        <p:spPr>
          <a:xfrm>
            <a:off x="720720" y="1619280"/>
            <a:ext cx="6977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44546a"/>
                </a:solidFill>
                <a:latin typeface="Verdana"/>
                <a:ea typeface="ＭＳ Ｐゴシック"/>
              </a:rPr>
              <a:t>Wasze postaci mieszkają w trzech różnych fikcyjnych kraj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Grafik 12" descr="Hier wird das Armenviertel vom Reichenviertel lediglich von einer StraÃe getrennt."/>
          <p:cNvPicPr/>
          <p:nvPr/>
        </p:nvPicPr>
        <p:blipFill>
          <a:blip r:embed="rId1"/>
          <a:srcRect l="0" t="2272" r="0" b="2272"/>
          <a:stretch/>
        </p:blipFill>
        <p:spPr>
          <a:xfrm>
            <a:off x="1138320" y="2755800"/>
            <a:ext cx="1908000" cy="1908360"/>
          </a:xfrm>
          <a:prstGeom prst="rect">
            <a:avLst/>
          </a:prstGeom>
          <a:ln w="0">
            <a:noFill/>
          </a:ln>
        </p:spPr>
      </p:pic>
      <p:pic>
        <p:nvPicPr>
          <p:cNvPr id="236" name="Grafik 14" descr=""/>
          <p:cNvPicPr/>
          <p:nvPr/>
        </p:nvPicPr>
        <p:blipFill>
          <a:blip r:embed="rId2"/>
          <a:srcRect l="21875" t="0" r="21875" b="0"/>
          <a:stretch/>
        </p:blipFill>
        <p:spPr>
          <a:xfrm>
            <a:off x="3448080" y="2755800"/>
            <a:ext cx="1908000" cy="1908360"/>
          </a:xfrm>
          <a:prstGeom prst="rect">
            <a:avLst/>
          </a:prstGeom>
          <a:ln w="0">
            <a:noFill/>
          </a:ln>
        </p:spPr>
      </p:pic>
      <p:pic>
        <p:nvPicPr>
          <p:cNvPr id="237" name="Grafik 16" descr="Perth, Australien, Stadt, Städte, Café, Geschäfte"/>
          <p:cNvPicPr/>
          <p:nvPr/>
        </p:nvPicPr>
        <p:blipFill>
          <a:blip r:embed="rId3"/>
          <a:srcRect l="2510" t="0" r="36140" b="0"/>
          <a:stretch/>
        </p:blipFill>
        <p:spPr>
          <a:xfrm>
            <a:off x="5746680" y="2755800"/>
            <a:ext cx="1908360" cy="1908360"/>
          </a:xfrm>
          <a:prstGeom prst="rect">
            <a:avLst/>
          </a:prstGeom>
          <a:ln w="0">
            <a:noFill/>
          </a:ln>
        </p:spPr>
      </p:pic>
      <p:sp>
        <p:nvSpPr>
          <p:cNvPr id="238" name="Rechteck: abgerundete Ecken 20"/>
          <p:cNvSpPr/>
          <p:nvPr/>
        </p:nvSpPr>
        <p:spPr>
          <a:xfrm>
            <a:off x="539640" y="-100080"/>
            <a:ext cx="2556000" cy="64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e9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600" spc="-1" strike="noStrike">
                <a:solidFill>
                  <a:srgbClr val="e98080"/>
                </a:solidFill>
                <a:latin typeface="Verdana"/>
              </a:rPr>
              <a:t>TRYB G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hteck 13"/>
          <p:cNvSpPr/>
          <p:nvPr/>
        </p:nvSpPr>
        <p:spPr>
          <a:xfrm>
            <a:off x="1112760" y="4780800"/>
            <a:ext cx="19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7fa4e7"/>
                </a:solidFill>
                <a:latin typeface="Verdana"/>
                <a:ea typeface="ＭＳ Ｐゴシック"/>
              </a:rPr>
              <a:t>GAGO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hteck 15"/>
          <p:cNvSpPr/>
          <p:nvPr/>
        </p:nvSpPr>
        <p:spPr>
          <a:xfrm>
            <a:off x="3720240" y="477036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ea8080"/>
                </a:solidFill>
                <a:latin typeface="Verdana"/>
                <a:ea typeface="ＭＳ Ｐゴシック"/>
              </a:rPr>
              <a:t>FONT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hteck 17"/>
          <p:cNvSpPr/>
          <p:nvPr/>
        </p:nvSpPr>
        <p:spPr>
          <a:xfrm>
            <a:off x="6026040" y="476964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9f8db6"/>
                </a:solidFill>
                <a:latin typeface="Verdana"/>
                <a:ea typeface="ＭＳ Ｐゴシック"/>
              </a:rPr>
              <a:t>LIN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hteck 14"/>
          <p:cNvSpPr/>
          <p:nvPr/>
        </p:nvSpPr>
        <p:spPr>
          <a:xfrm>
            <a:off x="7243920" y="1052640"/>
            <a:ext cx="1884240" cy="264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Grafik 10" descr=""/>
          <p:cNvPicPr/>
          <p:nvPr/>
        </p:nvPicPr>
        <p:blipFill>
          <a:blip r:embed="rId1"/>
          <a:stretch/>
        </p:blipFill>
        <p:spPr>
          <a:xfrm rot="20923200">
            <a:off x="522000" y="1389240"/>
            <a:ext cx="4065480" cy="2734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44" name="Textfeld 11"/>
          <p:cNvSpPr/>
          <p:nvPr/>
        </p:nvSpPr>
        <p:spPr>
          <a:xfrm>
            <a:off x="351000" y="4979880"/>
            <a:ext cx="2462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l-PL" sz="1600" spc="-1" strike="noStrike">
                <a:solidFill>
                  <a:srgbClr val="44546a"/>
                </a:solidFill>
                <a:latin typeface="Verdana"/>
                <a:ea typeface="ＭＳ Ｐゴシック"/>
              </a:rPr>
              <a:t>Profil Państw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Grafik 8" descr=""/>
          <p:cNvPicPr/>
          <p:nvPr/>
        </p:nvPicPr>
        <p:blipFill>
          <a:blip r:embed="rId2"/>
          <a:stretch/>
        </p:blipFill>
        <p:spPr>
          <a:xfrm rot="21388200">
            <a:off x="2789280" y="2268360"/>
            <a:ext cx="6108480" cy="4316760"/>
          </a:xfrm>
          <a:prstGeom prst="rect">
            <a:avLst/>
          </a:prstGeom>
          <a:ln w="6480">
            <a:solidFill>
              <a:srgbClr val="fafafa"/>
            </a:solidFill>
            <a:miter/>
          </a:ln>
          <a:effectLst>
            <a:outerShdw dist="50760" dir="5400000" blurRad="0" rotWithShape="0">
              <a:srgbClr val="323e53">
                <a:alpha val="12000"/>
              </a:srgbClr>
            </a:outerShdw>
          </a:effectLst>
        </p:spPr>
      </p:pic>
      <p:pic>
        <p:nvPicPr>
          <p:cNvPr id="246" name="Grafik 11" descr="Linienpfeil: Kurve gegen den Uhrzeigersinn"/>
          <p:cNvPicPr/>
          <p:nvPr/>
        </p:nvPicPr>
        <p:blipFill>
          <a:blip r:embed="rId3"/>
          <a:stretch/>
        </p:blipFill>
        <p:spPr>
          <a:xfrm rot="10552200">
            <a:off x="5311440" y="1486080"/>
            <a:ext cx="612720" cy="612720"/>
          </a:xfrm>
          <a:prstGeom prst="rect">
            <a:avLst/>
          </a:prstGeom>
          <a:ln w="0">
            <a:noFill/>
          </a:ln>
        </p:spPr>
      </p:pic>
      <p:sp>
        <p:nvSpPr>
          <p:cNvPr id="247" name="Textfeld 15"/>
          <p:cNvSpPr/>
          <p:nvPr/>
        </p:nvSpPr>
        <p:spPr>
          <a:xfrm>
            <a:off x="4329000" y="1115640"/>
            <a:ext cx="2462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l-PL" sz="1600" spc="-1" strike="noStrike">
                <a:solidFill>
                  <a:srgbClr val="44546a"/>
                </a:solidFill>
                <a:latin typeface="Verdana"/>
                <a:ea typeface="ＭＳ Ｐゴシック"/>
              </a:rPr>
              <a:t>Plansza g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Grafik 13" descr="Linienpfeil: Kurve gegen den Uhrzeigersinn"/>
          <p:cNvPicPr/>
          <p:nvPr/>
        </p:nvPicPr>
        <p:blipFill>
          <a:blip r:embed="rId4"/>
          <a:stretch/>
        </p:blipFill>
        <p:spPr>
          <a:xfrm rot="2700000">
            <a:off x="1420920" y="4398840"/>
            <a:ext cx="612720" cy="612720"/>
          </a:xfrm>
          <a:prstGeom prst="rect">
            <a:avLst/>
          </a:prstGeom>
          <a:ln w="0">
            <a:noFill/>
          </a:ln>
        </p:spPr>
      </p:pic>
      <p:sp>
        <p:nvSpPr>
          <p:cNvPr id="249" name="Rechteck: abgerundete Ecken 27"/>
          <p:cNvSpPr/>
          <p:nvPr/>
        </p:nvSpPr>
        <p:spPr>
          <a:xfrm>
            <a:off x="539640" y="-100080"/>
            <a:ext cx="2556000" cy="64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e9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600" spc="-1" strike="noStrike">
                <a:solidFill>
                  <a:srgbClr val="e98080"/>
                </a:solidFill>
                <a:latin typeface="Verdana"/>
              </a:rPr>
              <a:t>TRYB G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Grafik 12" descr="Hier wird das Armenviertel vom Reichenviertel lediglich von einer StraÃe getrennt."/>
          <p:cNvPicPr/>
          <p:nvPr/>
        </p:nvPicPr>
        <p:blipFill>
          <a:blip r:embed="rId1"/>
          <a:srcRect l="0" t="2272" r="0" b="2272"/>
          <a:stretch/>
        </p:blipFill>
        <p:spPr>
          <a:xfrm>
            <a:off x="1138320" y="2755800"/>
            <a:ext cx="1908000" cy="1908360"/>
          </a:xfrm>
          <a:prstGeom prst="rect">
            <a:avLst/>
          </a:prstGeom>
          <a:ln w="0">
            <a:noFill/>
          </a:ln>
        </p:spPr>
      </p:pic>
      <p:sp>
        <p:nvSpPr>
          <p:cNvPr id="251" name="Rechteck 13"/>
          <p:cNvSpPr/>
          <p:nvPr/>
        </p:nvSpPr>
        <p:spPr>
          <a:xfrm>
            <a:off x="1112760" y="4780800"/>
            <a:ext cx="19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7fa4e7"/>
                </a:solidFill>
                <a:latin typeface="Verdana"/>
                <a:ea typeface="ＭＳ Ｐゴシック"/>
              </a:rPr>
              <a:t>GAGO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Grafik 14" descr=""/>
          <p:cNvPicPr/>
          <p:nvPr/>
        </p:nvPicPr>
        <p:blipFill>
          <a:blip r:embed="rId2"/>
          <a:srcRect l="21875" t="0" r="21875" b="0"/>
          <a:stretch/>
        </p:blipFill>
        <p:spPr>
          <a:xfrm>
            <a:off x="3448080" y="2755800"/>
            <a:ext cx="1908000" cy="1908360"/>
          </a:xfrm>
          <a:prstGeom prst="rect">
            <a:avLst/>
          </a:prstGeom>
          <a:ln w="0">
            <a:noFill/>
          </a:ln>
        </p:spPr>
      </p:pic>
      <p:sp>
        <p:nvSpPr>
          <p:cNvPr id="253" name="Rechteck 15"/>
          <p:cNvSpPr/>
          <p:nvPr/>
        </p:nvSpPr>
        <p:spPr>
          <a:xfrm>
            <a:off x="3720240" y="477036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ea8080"/>
                </a:solidFill>
                <a:latin typeface="Verdana"/>
                <a:ea typeface="ＭＳ Ｐゴシック"/>
              </a:rPr>
              <a:t>FONT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Grafik 16" descr="Perth, Australien, Stadt, Städte, Café, Geschäfte"/>
          <p:cNvPicPr/>
          <p:nvPr/>
        </p:nvPicPr>
        <p:blipFill>
          <a:blip r:embed="rId3"/>
          <a:srcRect l="2510" t="0" r="36140" b="0"/>
          <a:stretch/>
        </p:blipFill>
        <p:spPr>
          <a:xfrm>
            <a:off x="5746680" y="2755800"/>
            <a:ext cx="1908360" cy="1908360"/>
          </a:xfrm>
          <a:prstGeom prst="rect">
            <a:avLst/>
          </a:prstGeom>
          <a:ln w="0">
            <a:noFill/>
          </a:ln>
        </p:spPr>
      </p:pic>
      <p:sp>
        <p:nvSpPr>
          <p:cNvPr id="255" name="Rechteck 17"/>
          <p:cNvSpPr/>
          <p:nvPr/>
        </p:nvSpPr>
        <p:spPr>
          <a:xfrm>
            <a:off x="6026040" y="476964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9f8db6"/>
                </a:solidFill>
                <a:latin typeface="Verdana"/>
                <a:ea typeface="ＭＳ Ｐゴシック"/>
              </a:rPr>
              <a:t>LIN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feld 9"/>
          <p:cNvSpPr/>
          <p:nvPr/>
        </p:nvSpPr>
        <p:spPr>
          <a:xfrm>
            <a:off x="720720" y="1193760"/>
            <a:ext cx="69343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44546a"/>
                </a:solidFill>
                <a:latin typeface="Verdana"/>
                <a:ea typeface="ＭＳ Ｐゴシック"/>
              </a:rPr>
              <a:t>W każdym kraju obowiązują inne przepisy, a sądy wydają różne orzecze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feld 9"/>
          <p:cNvSpPr/>
          <p:nvPr/>
        </p:nvSpPr>
        <p:spPr>
          <a:xfrm>
            <a:off x="1452600" y="5369040"/>
            <a:ext cx="620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44546a"/>
                </a:solidFill>
                <a:latin typeface="Verdana"/>
                <a:ea typeface="ＭＳ Ｐゴシック"/>
              </a:rPr>
              <a:t>Czy (Twoja postać) akceptujesz działania swojego kraju, czy nie? Dlaczeg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hteck: abgerundete Ecken 27"/>
          <p:cNvSpPr/>
          <p:nvPr/>
        </p:nvSpPr>
        <p:spPr>
          <a:xfrm>
            <a:off x="539640" y="-100080"/>
            <a:ext cx="2556000" cy="64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e9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600" spc="-1" strike="noStrike">
                <a:solidFill>
                  <a:srgbClr val="e98080"/>
                </a:solidFill>
                <a:latin typeface="Verdana"/>
              </a:rPr>
              <a:t>TRYB G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Grafik 28" descr=""/>
          <p:cNvPicPr/>
          <p:nvPr/>
        </p:nvPicPr>
        <p:blipFill>
          <a:blip r:embed="rId4"/>
          <a:stretch/>
        </p:blipFill>
        <p:spPr>
          <a:xfrm rot="20940000">
            <a:off x="3793680" y="2301480"/>
            <a:ext cx="1130400" cy="5382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323e53">
                <a:alpha val="30000"/>
              </a:srgbClr>
            </a:outerShdw>
          </a:effectLst>
        </p:spPr>
      </p:pic>
      <p:pic>
        <p:nvPicPr>
          <p:cNvPr id="260" name="Grafik 26" descr=""/>
          <p:cNvPicPr/>
          <p:nvPr/>
        </p:nvPicPr>
        <p:blipFill>
          <a:blip r:embed="rId5"/>
          <a:stretch/>
        </p:blipFill>
        <p:spPr>
          <a:xfrm rot="540000">
            <a:off x="3978000" y="2468520"/>
            <a:ext cx="1130040" cy="5382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323e53">
                <a:alpha val="30000"/>
              </a:srgbClr>
            </a:outerShdw>
          </a:effectLst>
        </p:spPr>
      </p:pic>
      <p:pic>
        <p:nvPicPr>
          <p:cNvPr id="261" name="Grafik 25" descr=""/>
          <p:cNvPicPr/>
          <p:nvPr/>
        </p:nvPicPr>
        <p:blipFill>
          <a:blip r:embed="rId6"/>
          <a:stretch/>
        </p:blipFill>
        <p:spPr>
          <a:xfrm rot="21360000">
            <a:off x="3727440" y="2553840"/>
            <a:ext cx="1130400" cy="5382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323e53">
                <a:alpha val="30000"/>
              </a:srgbClr>
            </a:outerShdw>
          </a:effectLst>
        </p:spPr>
      </p:pic>
      <p:pic>
        <p:nvPicPr>
          <p:cNvPr id="262" name="Grafik 29" descr=""/>
          <p:cNvPicPr/>
          <p:nvPr/>
        </p:nvPicPr>
        <p:blipFill>
          <a:blip r:embed="rId7"/>
          <a:stretch/>
        </p:blipFill>
        <p:spPr>
          <a:xfrm rot="21354000">
            <a:off x="1619280" y="2347560"/>
            <a:ext cx="1131840" cy="538200"/>
          </a:xfrm>
          <a:prstGeom prst="rect">
            <a:avLst/>
          </a:prstGeom>
          <a:ln w="0">
            <a:noFill/>
          </a:ln>
          <a:effectLst>
            <a:outerShdw dist="50911" dir="13500000" blurRad="0" rotWithShape="0">
              <a:srgbClr val="323e53">
                <a:alpha val="20000"/>
              </a:srgbClr>
            </a:outerShdw>
          </a:effectLst>
        </p:spPr>
      </p:pic>
      <p:pic>
        <p:nvPicPr>
          <p:cNvPr id="263" name="Grafik 30" descr=""/>
          <p:cNvPicPr/>
          <p:nvPr/>
        </p:nvPicPr>
        <p:blipFill>
          <a:blip r:embed="rId8"/>
          <a:stretch/>
        </p:blipFill>
        <p:spPr>
          <a:xfrm rot="20840400">
            <a:off x="1487160" y="2472840"/>
            <a:ext cx="1130400" cy="538200"/>
          </a:xfrm>
          <a:prstGeom prst="rect">
            <a:avLst/>
          </a:prstGeom>
          <a:ln w="0">
            <a:noFill/>
          </a:ln>
          <a:effectLst>
            <a:outerShdw dist="50911" dir="13500000" blurRad="0" rotWithShape="0">
              <a:srgbClr val="323e53">
                <a:alpha val="20000"/>
              </a:srgbClr>
            </a:outerShdw>
          </a:effectLst>
        </p:spPr>
      </p:pic>
      <p:pic>
        <p:nvPicPr>
          <p:cNvPr id="264" name="Grafik 31" descr=""/>
          <p:cNvPicPr/>
          <p:nvPr/>
        </p:nvPicPr>
        <p:blipFill>
          <a:blip r:embed="rId9"/>
          <a:stretch/>
        </p:blipFill>
        <p:spPr>
          <a:xfrm rot="268200">
            <a:off x="1614600" y="2517840"/>
            <a:ext cx="1130040" cy="536400"/>
          </a:xfrm>
          <a:prstGeom prst="rect">
            <a:avLst/>
          </a:prstGeom>
          <a:ln w="0">
            <a:noFill/>
          </a:ln>
          <a:effectLst>
            <a:outerShdw dist="50911" dir="13500000" blurRad="0" rotWithShape="0">
              <a:srgbClr val="323e53">
                <a:alpha val="20000"/>
              </a:srgbClr>
            </a:outerShdw>
          </a:effectLst>
        </p:spPr>
      </p:pic>
      <p:pic>
        <p:nvPicPr>
          <p:cNvPr id="265" name="Grafik 32" descr=""/>
          <p:cNvPicPr/>
          <p:nvPr/>
        </p:nvPicPr>
        <p:blipFill>
          <a:blip r:embed="rId10"/>
          <a:stretch/>
        </p:blipFill>
        <p:spPr>
          <a:xfrm rot="21360000">
            <a:off x="5921280" y="2285640"/>
            <a:ext cx="1130400" cy="536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323e53">
                <a:alpha val="30000"/>
              </a:srgbClr>
            </a:outerShdw>
          </a:effectLst>
        </p:spPr>
      </p:pic>
      <p:pic>
        <p:nvPicPr>
          <p:cNvPr id="266" name="Grafik 33" descr=""/>
          <p:cNvPicPr/>
          <p:nvPr/>
        </p:nvPicPr>
        <p:blipFill>
          <a:blip r:embed="rId11"/>
          <a:stretch/>
        </p:blipFill>
        <p:spPr>
          <a:xfrm rot="351600">
            <a:off x="6273360" y="2513160"/>
            <a:ext cx="1130400" cy="5378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323e53">
                <a:alpha val="30000"/>
              </a:srgbClr>
            </a:outerShdw>
          </a:effectLst>
        </p:spPr>
      </p:pic>
      <p:pic>
        <p:nvPicPr>
          <p:cNvPr id="267" name="Grafik 34" descr=""/>
          <p:cNvPicPr/>
          <p:nvPr/>
        </p:nvPicPr>
        <p:blipFill>
          <a:blip r:embed="rId12"/>
          <a:stretch/>
        </p:blipFill>
        <p:spPr>
          <a:xfrm rot="658200">
            <a:off x="6017760" y="2540160"/>
            <a:ext cx="1130400" cy="536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323e53">
                <a:alpha val="30000"/>
              </a:srgbClr>
            </a:outerShdw>
          </a:effectLst>
        </p:spPr>
      </p:pic>
      <p:pic>
        <p:nvPicPr>
          <p:cNvPr id="268" name="Grafik 3" descr="Hilfe"/>
          <p:cNvPicPr/>
          <p:nvPr/>
        </p:nvPicPr>
        <p:blipFill>
          <a:blip r:embed="rId13"/>
          <a:stretch/>
        </p:blipFill>
        <p:spPr>
          <a:xfrm>
            <a:off x="733320" y="5332320"/>
            <a:ext cx="71928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hteck 58"/>
          <p:cNvSpPr/>
          <p:nvPr/>
        </p:nvSpPr>
        <p:spPr>
          <a:xfrm>
            <a:off x="7243920" y="1052640"/>
            <a:ext cx="1884240" cy="264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Grafik 8" descr=""/>
          <p:cNvPicPr/>
          <p:nvPr/>
        </p:nvPicPr>
        <p:blipFill>
          <a:blip r:embed="rId1"/>
          <a:stretch/>
        </p:blipFill>
        <p:spPr>
          <a:xfrm rot="21388200">
            <a:off x="1584360" y="1324080"/>
            <a:ext cx="7343640" cy="5189400"/>
          </a:xfrm>
          <a:prstGeom prst="rect">
            <a:avLst/>
          </a:prstGeom>
          <a:ln w="6480">
            <a:solidFill>
              <a:srgbClr val="fafafa"/>
            </a:solidFill>
            <a:miter/>
          </a:ln>
          <a:effectLst>
            <a:outerShdw dist="50760" dir="5400000" blurRad="0" rotWithShape="0">
              <a:srgbClr val="323e53">
                <a:alpha val="12000"/>
              </a:srgbClr>
            </a:outerShdw>
          </a:effectLst>
        </p:spPr>
      </p:pic>
      <p:sp>
        <p:nvSpPr>
          <p:cNvPr id="271" name="Textfeld 15"/>
          <p:cNvSpPr/>
          <p:nvPr/>
        </p:nvSpPr>
        <p:spPr>
          <a:xfrm>
            <a:off x="3487680" y="354960"/>
            <a:ext cx="246240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l-PL" sz="1400" spc="-1" strike="noStrike">
                <a:solidFill>
                  <a:srgbClr val="44546a"/>
                </a:solidFill>
                <a:latin typeface="Verdana"/>
                <a:ea typeface="ＭＳ Ｐゴシック"/>
              </a:rPr>
              <a:t>Karty wydarze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Grafik 22" descr=""/>
          <p:cNvPicPr/>
          <p:nvPr/>
        </p:nvPicPr>
        <p:blipFill>
          <a:blip r:embed="rId2"/>
          <a:stretch/>
        </p:blipFill>
        <p:spPr>
          <a:xfrm rot="20251800">
            <a:off x="348840" y="1302840"/>
            <a:ext cx="2571840" cy="12225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323e53">
                <a:alpha val="12000"/>
              </a:srgbClr>
            </a:outerShdw>
          </a:effectLst>
        </p:spPr>
      </p:pic>
      <p:pic>
        <p:nvPicPr>
          <p:cNvPr id="273" name="Grafik 23" descr=""/>
          <p:cNvPicPr/>
          <p:nvPr/>
        </p:nvPicPr>
        <p:blipFill>
          <a:blip r:embed="rId3"/>
          <a:stretch/>
        </p:blipFill>
        <p:spPr>
          <a:xfrm rot="825600">
            <a:off x="2819160" y="1261800"/>
            <a:ext cx="2571480" cy="12222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323e53">
                <a:alpha val="12000"/>
              </a:srgbClr>
            </a:outerShdw>
          </a:effectLst>
        </p:spPr>
      </p:pic>
      <p:pic>
        <p:nvPicPr>
          <p:cNvPr id="274" name="Grafik 5" descr="Pfeil mit einer Linie: Kurve im Uhrzeigersinn"/>
          <p:cNvPicPr/>
          <p:nvPr/>
        </p:nvPicPr>
        <p:blipFill>
          <a:blip r:embed="rId4"/>
          <a:stretch/>
        </p:blipFill>
        <p:spPr>
          <a:xfrm rot="14400000">
            <a:off x="4331880" y="696960"/>
            <a:ext cx="611280" cy="611280"/>
          </a:xfrm>
          <a:prstGeom prst="rect">
            <a:avLst/>
          </a:prstGeom>
          <a:ln w="0">
            <a:noFill/>
          </a:ln>
        </p:spPr>
      </p:pic>
      <p:sp>
        <p:nvSpPr>
          <p:cNvPr id="275" name="Rechteck: abgerundete Ecken 27"/>
          <p:cNvSpPr/>
          <p:nvPr/>
        </p:nvSpPr>
        <p:spPr>
          <a:xfrm>
            <a:off x="539640" y="-100080"/>
            <a:ext cx="2556000" cy="64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e9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600" spc="-1" strike="noStrike">
                <a:solidFill>
                  <a:srgbClr val="e98080"/>
                </a:solidFill>
                <a:latin typeface="Verdana"/>
              </a:rPr>
              <a:t>TRYB G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uppieren 1"/>
          <p:cNvGrpSpPr/>
          <p:nvPr/>
        </p:nvGrpSpPr>
        <p:grpSpPr>
          <a:xfrm>
            <a:off x="3416400" y="3600360"/>
            <a:ext cx="4410000" cy="595440"/>
            <a:chOff x="3416400" y="3600360"/>
            <a:chExt cx="4410000" cy="595440"/>
          </a:xfrm>
        </p:grpSpPr>
        <p:sp>
          <p:nvSpPr>
            <p:cNvPr id="277" name="Grafik 2"/>
            <p:cNvSpPr/>
            <p:nvPr/>
          </p:nvSpPr>
          <p:spPr>
            <a:xfrm>
              <a:off x="3416400" y="3600360"/>
              <a:ext cx="272880" cy="595440"/>
            </a:xfrm>
            <a:custGeom>
              <a:avLst/>
              <a:gdLst/>
              <a:ahLst/>
              <a:rect l="l" t="t" r="r" b="b"/>
              <a:pathLst>
                <a:path w="273086" h="595552">
                  <a:moveTo>
                    <a:pt x="273086" y="526738"/>
                  </a:moveTo>
                  <a:cubicBezTo>
                    <a:pt x="273086" y="538624"/>
                    <a:pt x="263042" y="556141"/>
                    <a:pt x="252369" y="562396"/>
                  </a:cubicBezTo>
                  <a:cubicBezTo>
                    <a:pt x="214702" y="584292"/>
                    <a:pt x="175780" y="594301"/>
                    <a:pt x="136857" y="595552"/>
                  </a:cubicBezTo>
                  <a:cubicBezTo>
                    <a:pt x="97307" y="594301"/>
                    <a:pt x="59012" y="584292"/>
                    <a:pt x="20717" y="563022"/>
                  </a:cubicBezTo>
                  <a:cubicBezTo>
                    <a:pt x="10045" y="556766"/>
                    <a:pt x="0" y="539250"/>
                    <a:pt x="0" y="526738"/>
                  </a:cubicBezTo>
                  <a:cubicBezTo>
                    <a:pt x="2511" y="422892"/>
                    <a:pt x="25739" y="324676"/>
                    <a:pt x="76590" y="232716"/>
                  </a:cubicBezTo>
                  <a:cubicBezTo>
                    <a:pt x="82240" y="222081"/>
                    <a:pt x="86634" y="212072"/>
                    <a:pt x="87890" y="202062"/>
                  </a:cubicBezTo>
                  <a:cubicBezTo>
                    <a:pt x="52734" y="184546"/>
                    <a:pt x="29506" y="148262"/>
                    <a:pt x="29506" y="106974"/>
                  </a:cubicBezTo>
                  <a:cubicBezTo>
                    <a:pt x="28878" y="48170"/>
                    <a:pt x="77217" y="0"/>
                    <a:pt x="136229" y="0"/>
                  </a:cubicBezTo>
                  <a:cubicBezTo>
                    <a:pt x="195241" y="0"/>
                    <a:pt x="243580" y="48170"/>
                    <a:pt x="243580" y="106974"/>
                  </a:cubicBezTo>
                  <a:cubicBezTo>
                    <a:pt x="243580" y="148262"/>
                    <a:pt x="219724" y="184546"/>
                    <a:pt x="185196" y="202062"/>
                  </a:cubicBezTo>
                  <a:cubicBezTo>
                    <a:pt x="185824" y="212697"/>
                    <a:pt x="190846" y="222706"/>
                    <a:pt x="196496" y="233341"/>
                  </a:cubicBezTo>
                  <a:cubicBezTo>
                    <a:pt x="246719" y="324676"/>
                    <a:pt x="270575" y="423518"/>
                    <a:pt x="273086" y="526738"/>
                  </a:cubicBezTo>
                  <a:close/>
                </a:path>
              </a:pathLst>
            </a:custGeom>
            <a:solidFill>
              <a:srgbClr val="323e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Grafik 48"/>
            <p:cNvSpPr/>
            <p:nvPr/>
          </p:nvSpPr>
          <p:spPr>
            <a:xfrm>
              <a:off x="4005360" y="3600360"/>
              <a:ext cx="272880" cy="595440"/>
            </a:xfrm>
            <a:custGeom>
              <a:avLst/>
              <a:gdLst/>
              <a:ahLst/>
              <a:rect l="l" t="t" r="r" b="b"/>
              <a:pathLst>
                <a:path w="273086" h="595552">
                  <a:moveTo>
                    <a:pt x="273086" y="526738"/>
                  </a:moveTo>
                  <a:cubicBezTo>
                    <a:pt x="273086" y="538624"/>
                    <a:pt x="263042" y="556141"/>
                    <a:pt x="252369" y="562396"/>
                  </a:cubicBezTo>
                  <a:cubicBezTo>
                    <a:pt x="214702" y="584292"/>
                    <a:pt x="175780" y="594301"/>
                    <a:pt x="136857" y="595552"/>
                  </a:cubicBezTo>
                  <a:cubicBezTo>
                    <a:pt x="97307" y="594301"/>
                    <a:pt x="59012" y="584292"/>
                    <a:pt x="20717" y="563022"/>
                  </a:cubicBezTo>
                  <a:cubicBezTo>
                    <a:pt x="10045" y="556766"/>
                    <a:pt x="0" y="539250"/>
                    <a:pt x="0" y="526738"/>
                  </a:cubicBezTo>
                  <a:cubicBezTo>
                    <a:pt x="2511" y="422892"/>
                    <a:pt x="25739" y="324676"/>
                    <a:pt x="76590" y="232716"/>
                  </a:cubicBezTo>
                  <a:cubicBezTo>
                    <a:pt x="82240" y="222081"/>
                    <a:pt x="86634" y="212072"/>
                    <a:pt x="87890" y="202062"/>
                  </a:cubicBezTo>
                  <a:cubicBezTo>
                    <a:pt x="52734" y="184546"/>
                    <a:pt x="29506" y="148262"/>
                    <a:pt x="29506" y="106974"/>
                  </a:cubicBezTo>
                  <a:cubicBezTo>
                    <a:pt x="28878" y="48170"/>
                    <a:pt x="77217" y="0"/>
                    <a:pt x="136229" y="0"/>
                  </a:cubicBezTo>
                  <a:cubicBezTo>
                    <a:pt x="195241" y="0"/>
                    <a:pt x="243580" y="48170"/>
                    <a:pt x="243580" y="106974"/>
                  </a:cubicBezTo>
                  <a:cubicBezTo>
                    <a:pt x="243580" y="148262"/>
                    <a:pt x="219724" y="184546"/>
                    <a:pt x="185196" y="202062"/>
                  </a:cubicBezTo>
                  <a:cubicBezTo>
                    <a:pt x="185824" y="212697"/>
                    <a:pt x="190846" y="222706"/>
                    <a:pt x="196496" y="233341"/>
                  </a:cubicBezTo>
                  <a:cubicBezTo>
                    <a:pt x="246719" y="324676"/>
                    <a:pt x="270575" y="423518"/>
                    <a:pt x="273086" y="526738"/>
                  </a:cubicBezTo>
                  <a:close/>
                </a:path>
              </a:pathLst>
            </a:custGeom>
            <a:solidFill>
              <a:srgbClr val="323e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Grafik 49"/>
            <p:cNvSpPr/>
            <p:nvPr/>
          </p:nvSpPr>
          <p:spPr>
            <a:xfrm>
              <a:off x="4591080" y="3600360"/>
              <a:ext cx="272880" cy="595440"/>
            </a:xfrm>
            <a:custGeom>
              <a:avLst/>
              <a:gdLst/>
              <a:ahLst/>
              <a:rect l="l" t="t" r="r" b="b"/>
              <a:pathLst>
                <a:path w="273086" h="595552">
                  <a:moveTo>
                    <a:pt x="273086" y="526738"/>
                  </a:moveTo>
                  <a:cubicBezTo>
                    <a:pt x="273086" y="538624"/>
                    <a:pt x="263042" y="556141"/>
                    <a:pt x="252369" y="562396"/>
                  </a:cubicBezTo>
                  <a:cubicBezTo>
                    <a:pt x="214702" y="584292"/>
                    <a:pt x="175780" y="594301"/>
                    <a:pt x="136857" y="595552"/>
                  </a:cubicBezTo>
                  <a:cubicBezTo>
                    <a:pt x="97307" y="594301"/>
                    <a:pt x="59012" y="584292"/>
                    <a:pt x="20717" y="563022"/>
                  </a:cubicBezTo>
                  <a:cubicBezTo>
                    <a:pt x="10045" y="556766"/>
                    <a:pt x="0" y="539250"/>
                    <a:pt x="0" y="526738"/>
                  </a:cubicBezTo>
                  <a:cubicBezTo>
                    <a:pt x="2511" y="422892"/>
                    <a:pt x="25739" y="324676"/>
                    <a:pt x="76590" y="232716"/>
                  </a:cubicBezTo>
                  <a:cubicBezTo>
                    <a:pt x="82240" y="222081"/>
                    <a:pt x="86634" y="212072"/>
                    <a:pt x="87890" y="202062"/>
                  </a:cubicBezTo>
                  <a:cubicBezTo>
                    <a:pt x="52734" y="184546"/>
                    <a:pt x="29506" y="148262"/>
                    <a:pt x="29506" y="106974"/>
                  </a:cubicBezTo>
                  <a:cubicBezTo>
                    <a:pt x="28878" y="48170"/>
                    <a:pt x="77217" y="0"/>
                    <a:pt x="136229" y="0"/>
                  </a:cubicBezTo>
                  <a:cubicBezTo>
                    <a:pt x="195241" y="0"/>
                    <a:pt x="243580" y="48170"/>
                    <a:pt x="243580" y="106974"/>
                  </a:cubicBezTo>
                  <a:cubicBezTo>
                    <a:pt x="243580" y="148262"/>
                    <a:pt x="219724" y="184546"/>
                    <a:pt x="185196" y="202062"/>
                  </a:cubicBezTo>
                  <a:cubicBezTo>
                    <a:pt x="185824" y="212697"/>
                    <a:pt x="190846" y="222706"/>
                    <a:pt x="196496" y="233341"/>
                  </a:cubicBezTo>
                  <a:cubicBezTo>
                    <a:pt x="246719" y="324676"/>
                    <a:pt x="270575" y="423518"/>
                    <a:pt x="273086" y="526738"/>
                  </a:cubicBezTo>
                  <a:close/>
                </a:path>
              </a:pathLst>
            </a:custGeom>
            <a:solidFill>
              <a:srgbClr val="323e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Grafik 50"/>
            <p:cNvSpPr/>
            <p:nvPr/>
          </p:nvSpPr>
          <p:spPr>
            <a:xfrm>
              <a:off x="5178600" y="3600360"/>
              <a:ext cx="272880" cy="595440"/>
            </a:xfrm>
            <a:custGeom>
              <a:avLst/>
              <a:gdLst/>
              <a:ahLst/>
              <a:rect l="l" t="t" r="r" b="b"/>
              <a:pathLst>
                <a:path w="273086" h="595552">
                  <a:moveTo>
                    <a:pt x="273086" y="526738"/>
                  </a:moveTo>
                  <a:cubicBezTo>
                    <a:pt x="273086" y="538624"/>
                    <a:pt x="263042" y="556141"/>
                    <a:pt x="252369" y="562396"/>
                  </a:cubicBezTo>
                  <a:cubicBezTo>
                    <a:pt x="214702" y="584292"/>
                    <a:pt x="175780" y="594301"/>
                    <a:pt x="136857" y="595552"/>
                  </a:cubicBezTo>
                  <a:cubicBezTo>
                    <a:pt x="97307" y="594301"/>
                    <a:pt x="59012" y="584292"/>
                    <a:pt x="20717" y="563022"/>
                  </a:cubicBezTo>
                  <a:cubicBezTo>
                    <a:pt x="10045" y="556766"/>
                    <a:pt x="0" y="539250"/>
                    <a:pt x="0" y="526738"/>
                  </a:cubicBezTo>
                  <a:cubicBezTo>
                    <a:pt x="2511" y="422892"/>
                    <a:pt x="25739" y="324676"/>
                    <a:pt x="76590" y="232716"/>
                  </a:cubicBezTo>
                  <a:cubicBezTo>
                    <a:pt x="82240" y="222081"/>
                    <a:pt x="86634" y="212072"/>
                    <a:pt x="87890" y="202062"/>
                  </a:cubicBezTo>
                  <a:cubicBezTo>
                    <a:pt x="52734" y="184546"/>
                    <a:pt x="29506" y="148262"/>
                    <a:pt x="29506" y="106974"/>
                  </a:cubicBezTo>
                  <a:cubicBezTo>
                    <a:pt x="28878" y="48170"/>
                    <a:pt x="77217" y="0"/>
                    <a:pt x="136229" y="0"/>
                  </a:cubicBezTo>
                  <a:cubicBezTo>
                    <a:pt x="195241" y="0"/>
                    <a:pt x="243580" y="48170"/>
                    <a:pt x="243580" y="106974"/>
                  </a:cubicBezTo>
                  <a:cubicBezTo>
                    <a:pt x="243580" y="148262"/>
                    <a:pt x="219724" y="184546"/>
                    <a:pt x="185196" y="202062"/>
                  </a:cubicBezTo>
                  <a:cubicBezTo>
                    <a:pt x="185824" y="212697"/>
                    <a:pt x="190846" y="222706"/>
                    <a:pt x="196496" y="233341"/>
                  </a:cubicBezTo>
                  <a:cubicBezTo>
                    <a:pt x="246719" y="324676"/>
                    <a:pt x="270575" y="423518"/>
                    <a:pt x="273086" y="526738"/>
                  </a:cubicBezTo>
                  <a:close/>
                </a:path>
              </a:pathLst>
            </a:custGeom>
            <a:solidFill>
              <a:srgbClr val="323e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Grafik 51"/>
            <p:cNvSpPr/>
            <p:nvPr/>
          </p:nvSpPr>
          <p:spPr>
            <a:xfrm>
              <a:off x="5757840" y="3600360"/>
              <a:ext cx="272880" cy="595440"/>
            </a:xfrm>
            <a:custGeom>
              <a:avLst/>
              <a:gdLst/>
              <a:ahLst/>
              <a:rect l="l" t="t" r="r" b="b"/>
              <a:pathLst>
                <a:path w="273086" h="595552">
                  <a:moveTo>
                    <a:pt x="273086" y="526738"/>
                  </a:moveTo>
                  <a:cubicBezTo>
                    <a:pt x="273086" y="538624"/>
                    <a:pt x="263042" y="556141"/>
                    <a:pt x="252369" y="562396"/>
                  </a:cubicBezTo>
                  <a:cubicBezTo>
                    <a:pt x="214702" y="584292"/>
                    <a:pt x="175780" y="594301"/>
                    <a:pt x="136857" y="595552"/>
                  </a:cubicBezTo>
                  <a:cubicBezTo>
                    <a:pt x="97307" y="594301"/>
                    <a:pt x="59012" y="584292"/>
                    <a:pt x="20717" y="563022"/>
                  </a:cubicBezTo>
                  <a:cubicBezTo>
                    <a:pt x="10045" y="556766"/>
                    <a:pt x="0" y="539250"/>
                    <a:pt x="0" y="526738"/>
                  </a:cubicBezTo>
                  <a:cubicBezTo>
                    <a:pt x="2511" y="422892"/>
                    <a:pt x="25739" y="324676"/>
                    <a:pt x="76590" y="232716"/>
                  </a:cubicBezTo>
                  <a:cubicBezTo>
                    <a:pt x="82240" y="222081"/>
                    <a:pt x="86634" y="212072"/>
                    <a:pt x="87890" y="202062"/>
                  </a:cubicBezTo>
                  <a:cubicBezTo>
                    <a:pt x="52734" y="184546"/>
                    <a:pt x="29506" y="148262"/>
                    <a:pt x="29506" y="106974"/>
                  </a:cubicBezTo>
                  <a:cubicBezTo>
                    <a:pt x="28878" y="48170"/>
                    <a:pt x="77217" y="0"/>
                    <a:pt x="136229" y="0"/>
                  </a:cubicBezTo>
                  <a:cubicBezTo>
                    <a:pt x="195241" y="0"/>
                    <a:pt x="243580" y="48170"/>
                    <a:pt x="243580" y="106974"/>
                  </a:cubicBezTo>
                  <a:cubicBezTo>
                    <a:pt x="243580" y="148262"/>
                    <a:pt x="219724" y="184546"/>
                    <a:pt x="185196" y="202062"/>
                  </a:cubicBezTo>
                  <a:cubicBezTo>
                    <a:pt x="185824" y="212697"/>
                    <a:pt x="190846" y="222706"/>
                    <a:pt x="196496" y="233341"/>
                  </a:cubicBezTo>
                  <a:cubicBezTo>
                    <a:pt x="246719" y="324676"/>
                    <a:pt x="270575" y="423518"/>
                    <a:pt x="273086" y="526738"/>
                  </a:cubicBezTo>
                  <a:close/>
                </a:path>
              </a:pathLst>
            </a:custGeom>
            <a:solidFill>
              <a:srgbClr val="323e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Grafik 53"/>
            <p:cNvSpPr/>
            <p:nvPr/>
          </p:nvSpPr>
          <p:spPr>
            <a:xfrm>
              <a:off x="6354720" y="3600360"/>
              <a:ext cx="272880" cy="595440"/>
            </a:xfrm>
            <a:custGeom>
              <a:avLst/>
              <a:gdLst/>
              <a:ahLst/>
              <a:rect l="l" t="t" r="r" b="b"/>
              <a:pathLst>
                <a:path w="273086" h="595552">
                  <a:moveTo>
                    <a:pt x="273086" y="526738"/>
                  </a:moveTo>
                  <a:cubicBezTo>
                    <a:pt x="273086" y="538624"/>
                    <a:pt x="263042" y="556141"/>
                    <a:pt x="252369" y="562396"/>
                  </a:cubicBezTo>
                  <a:cubicBezTo>
                    <a:pt x="214702" y="584292"/>
                    <a:pt x="175780" y="594301"/>
                    <a:pt x="136857" y="595552"/>
                  </a:cubicBezTo>
                  <a:cubicBezTo>
                    <a:pt x="97307" y="594301"/>
                    <a:pt x="59012" y="584292"/>
                    <a:pt x="20717" y="563022"/>
                  </a:cubicBezTo>
                  <a:cubicBezTo>
                    <a:pt x="10045" y="556766"/>
                    <a:pt x="0" y="539250"/>
                    <a:pt x="0" y="526738"/>
                  </a:cubicBezTo>
                  <a:cubicBezTo>
                    <a:pt x="2511" y="422892"/>
                    <a:pt x="25739" y="324676"/>
                    <a:pt x="76590" y="232716"/>
                  </a:cubicBezTo>
                  <a:cubicBezTo>
                    <a:pt x="82240" y="222081"/>
                    <a:pt x="86634" y="212072"/>
                    <a:pt x="87890" y="202062"/>
                  </a:cubicBezTo>
                  <a:cubicBezTo>
                    <a:pt x="52734" y="184546"/>
                    <a:pt x="29506" y="148262"/>
                    <a:pt x="29506" y="106974"/>
                  </a:cubicBezTo>
                  <a:cubicBezTo>
                    <a:pt x="28878" y="48170"/>
                    <a:pt x="77217" y="0"/>
                    <a:pt x="136229" y="0"/>
                  </a:cubicBezTo>
                  <a:cubicBezTo>
                    <a:pt x="195241" y="0"/>
                    <a:pt x="243580" y="48170"/>
                    <a:pt x="243580" y="106974"/>
                  </a:cubicBezTo>
                  <a:cubicBezTo>
                    <a:pt x="243580" y="148262"/>
                    <a:pt x="219724" y="184546"/>
                    <a:pt x="185196" y="202062"/>
                  </a:cubicBezTo>
                  <a:cubicBezTo>
                    <a:pt x="185824" y="212697"/>
                    <a:pt x="190846" y="222706"/>
                    <a:pt x="196496" y="233341"/>
                  </a:cubicBezTo>
                  <a:cubicBezTo>
                    <a:pt x="246719" y="324676"/>
                    <a:pt x="270575" y="423518"/>
                    <a:pt x="273086" y="526738"/>
                  </a:cubicBezTo>
                  <a:close/>
                </a:path>
              </a:pathLst>
            </a:custGeom>
            <a:solidFill>
              <a:srgbClr val="323e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Grafik 54"/>
            <p:cNvSpPr/>
            <p:nvPr/>
          </p:nvSpPr>
          <p:spPr>
            <a:xfrm>
              <a:off x="6951960" y="3600360"/>
              <a:ext cx="272880" cy="595440"/>
            </a:xfrm>
            <a:custGeom>
              <a:avLst/>
              <a:gdLst/>
              <a:ahLst/>
              <a:rect l="l" t="t" r="r" b="b"/>
              <a:pathLst>
                <a:path w="273086" h="595552">
                  <a:moveTo>
                    <a:pt x="273086" y="526738"/>
                  </a:moveTo>
                  <a:cubicBezTo>
                    <a:pt x="273086" y="538624"/>
                    <a:pt x="263042" y="556141"/>
                    <a:pt x="252369" y="562396"/>
                  </a:cubicBezTo>
                  <a:cubicBezTo>
                    <a:pt x="214702" y="584292"/>
                    <a:pt x="175780" y="594301"/>
                    <a:pt x="136857" y="595552"/>
                  </a:cubicBezTo>
                  <a:cubicBezTo>
                    <a:pt x="97307" y="594301"/>
                    <a:pt x="59012" y="584292"/>
                    <a:pt x="20717" y="563022"/>
                  </a:cubicBezTo>
                  <a:cubicBezTo>
                    <a:pt x="10045" y="556766"/>
                    <a:pt x="0" y="539250"/>
                    <a:pt x="0" y="526738"/>
                  </a:cubicBezTo>
                  <a:cubicBezTo>
                    <a:pt x="2511" y="422892"/>
                    <a:pt x="25739" y="324676"/>
                    <a:pt x="76590" y="232716"/>
                  </a:cubicBezTo>
                  <a:cubicBezTo>
                    <a:pt x="82240" y="222081"/>
                    <a:pt x="86634" y="212072"/>
                    <a:pt x="87890" y="202062"/>
                  </a:cubicBezTo>
                  <a:cubicBezTo>
                    <a:pt x="52734" y="184546"/>
                    <a:pt x="29506" y="148262"/>
                    <a:pt x="29506" y="106974"/>
                  </a:cubicBezTo>
                  <a:cubicBezTo>
                    <a:pt x="28878" y="48170"/>
                    <a:pt x="77217" y="0"/>
                    <a:pt x="136229" y="0"/>
                  </a:cubicBezTo>
                  <a:cubicBezTo>
                    <a:pt x="195241" y="0"/>
                    <a:pt x="243580" y="48170"/>
                    <a:pt x="243580" y="106974"/>
                  </a:cubicBezTo>
                  <a:cubicBezTo>
                    <a:pt x="243580" y="148262"/>
                    <a:pt x="219724" y="184546"/>
                    <a:pt x="185196" y="202062"/>
                  </a:cubicBezTo>
                  <a:cubicBezTo>
                    <a:pt x="185824" y="212697"/>
                    <a:pt x="190846" y="222706"/>
                    <a:pt x="196496" y="233341"/>
                  </a:cubicBezTo>
                  <a:cubicBezTo>
                    <a:pt x="246719" y="324676"/>
                    <a:pt x="270575" y="423518"/>
                    <a:pt x="273086" y="526738"/>
                  </a:cubicBezTo>
                  <a:close/>
                </a:path>
              </a:pathLst>
            </a:custGeom>
            <a:solidFill>
              <a:srgbClr val="323e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Grafik 52"/>
            <p:cNvSpPr/>
            <p:nvPr/>
          </p:nvSpPr>
          <p:spPr>
            <a:xfrm>
              <a:off x="7553520" y="3600360"/>
              <a:ext cx="272880" cy="595440"/>
            </a:xfrm>
            <a:custGeom>
              <a:avLst/>
              <a:gdLst/>
              <a:ahLst/>
              <a:rect l="l" t="t" r="r" b="b"/>
              <a:pathLst>
                <a:path w="273086" h="595552">
                  <a:moveTo>
                    <a:pt x="273086" y="526738"/>
                  </a:moveTo>
                  <a:cubicBezTo>
                    <a:pt x="273086" y="538624"/>
                    <a:pt x="263042" y="556141"/>
                    <a:pt x="252369" y="562396"/>
                  </a:cubicBezTo>
                  <a:cubicBezTo>
                    <a:pt x="214702" y="584292"/>
                    <a:pt x="175780" y="594301"/>
                    <a:pt x="136857" y="595552"/>
                  </a:cubicBezTo>
                  <a:cubicBezTo>
                    <a:pt x="97307" y="594301"/>
                    <a:pt x="59012" y="584292"/>
                    <a:pt x="20717" y="563022"/>
                  </a:cubicBezTo>
                  <a:cubicBezTo>
                    <a:pt x="10045" y="556766"/>
                    <a:pt x="0" y="539250"/>
                    <a:pt x="0" y="526738"/>
                  </a:cubicBezTo>
                  <a:cubicBezTo>
                    <a:pt x="2511" y="422892"/>
                    <a:pt x="25739" y="324676"/>
                    <a:pt x="76590" y="232716"/>
                  </a:cubicBezTo>
                  <a:cubicBezTo>
                    <a:pt x="82240" y="222081"/>
                    <a:pt x="86634" y="212072"/>
                    <a:pt x="87890" y="202062"/>
                  </a:cubicBezTo>
                  <a:cubicBezTo>
                    <a:pt x="52734" y="184546"/>
                    <a:pt x="29506" y="148262"/>
                    <a:pt x="29506" y="106974"/>
                  </a:cubicBezTo>
                  <a:cubicBezTo>
                    <a:pt x="28878" y="48170"/>
                    <a:pt x="77217" y="0"/>
                    <a:pt x="136229" y="0"/>
                  </a:cubicBezTo>
                  <a:cubicBezTo>
                    <a:pt x="195241" y="0"/>
                    <a:pt x="243580" y="48170"/>
                    <a:pt x="243580" y="106974"/>
                  </a:cubicBezTo>
                  <a:cubicBezTo>
                    <a:pt x="243580" y="148262"/>
                    <a:pt x="219724" y="184546"/>
                    <a:pt x="185196" y="202062"/>
                  </a:cubicBezTo>
                  <a:cubicBezTo>
                    <a:pt x="185824" y="212697"/>
                    <a:pt x="190846" y="222706"/>
                    <a:pt x="196496" y="233341"/>
                  </a:cubicBezTo>
                  <a:cubicBezTo>
                    <a:pt x="246719" y="324676"/>
                    <a:pt x="270575" y="423518"/>
                    <a:pt x="273086" y="526738"/>
                  </a:cubicBezTo>
                  <a:close/>
                </a:path>
              </a:pathLst>
            </a:custGeom>
            <a:solidFill>
              <a:srgbClr val="323e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hteck: abgerundete Ecken 36"/>
          <p:cNvSpPr/>
          <p:nvPr/>
        </p:nvSpPr>
        <p:spPr>
          <a:xfrm>
            <a:off x="539640" y="-100080"/>
            <a:ext cx="2556000" cy="64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e9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600" spc="-1" strike="noStrike">
                <a:solidFill>
                  <a:srgbClr val="e98080"/>
                </a:solidFill>
                <a:latin typeface="Verdana"/>
              </a:rPr>
              <a:t>RUNDA PIERWS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hteck 38"/>
          <p:cNvSpPr/>
          <p:nvPr/>
        </p:nvSpPr>
        <p:spPr>
          <a:xfrm>
            <a:off x="7243920" y="1052640"/>
            <a:ext cx="1884240" cy="264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Grafik 14" descr=""/>
          <p:cNvPicPr/>
          <p:nvPr/>
        </p:nvPicPr>
        <p:blipFill>
          <a:blip r:embed="rId1"/>
          <a:srcRect l="21875" t="0" r="21875" b="0"/>
          <a:stretch/>
        </p:blipFill>
        <p:spPr>
          <a:xfrm>
            <a:off x="3627360" y="4454640"/>
            <a:ext cx="1908360" cy="1908000"/>
          </a:xfrm>
          <a:prstGeom prst="rect">
            <a:avLst/>
          </a:prstGeom>
          <a:ln w="0">
            <a:noFill/>
          </a:ln>
        </p:spPr>
      </p:pic>
      <p:pic>
        <p:nvPicPr>
          <p:cNvPr id="288" name="Grafik 12" descr="Hier wird das Armenviertel vom Reichenviertel lediglich von einer StraÃe getrennt."/>
          <p:cNvPicPr/>
          <p:nvPr/>
        </p:nvPicPr>
        <p:blipFill>
          <a:blip r:embed="rId2"/>
          <a:srcRect l="0" t="2272" r="0" b="2272"/>
          <a:stretch/>
        </p:blipFill>
        <p:spPr>
          <a:xfrm>
            <a:off x="1943280" y="1052640"/>
            <a:ext cx="1908000" cy="1908000"/>
          </a:xfrm>
          <a:prstGeom prst="rect">
            <a:avLst/>
          </a:prstGeom>
          <a:ln w="0">
            <a:noFill/>
          </a:ln>
        </p:spPr>
      </p:pic>
      <p:pic>
        <p:nvPicPr>
          <p:cNvPr id="289" name="Grafik 16" descr="Perth, Australien, Stadt, Städte, Café, Geschäfte"/>
          <p:cNvPicPr/>
          <p:nvPr/>
        </p:nvPicPr>
        <p:blipFill>
          <a:blip r:embed="rId3"/>
          <a:srcRect l="2510" t="0" r="36140" b="0"/>
          <a:stretch/>
        </p:blipFill>
        <p:spPr>
          <a:xfrm>
            <a:off x="5327640" y="1050840"/>
            <a:ext cx="1906560" cy="1908360"/>
          </a:xfrm>
          <a:prstGeom prst="rect">
            <a:avLst/>
          </a:prstGeom>
          <a:ln w="0">
            <a:noFill/>
          </a:ln>
        </p:spPr>
      </p:pic>
      <p:sp>
        <p:nvSpPr>
          <p:cNvPr id="290" name="Rechteck 38"/>
          <p:cNvSpPr/>
          <p:nvPr/>
        </p:nvSpPr>
        <p:spPr>
          <a:xfrm>
            <a:off x="2280600" y="3033720"/>
            <a:ext cx="1285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7fa4e7"/>
                </a:solidFill>
                <a:latin typeface="Verdana"/>
                <a:ea typeface="ＭＳ Ｐゴシック"/>
              </a:rPr>
              <a:t>GAGO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hteck 40"/>
          <p:cNvSpPr/>
          <p:nvPr/>
        </p:nvSpPr>
        <p:spPr>
          <a:xfrm>
            <a:off x="3886200" y="3986280"/>
            <a:ext cx="1396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ea8080"/>
                </a:solidFill>
                <a:latin typeface="Verdana"/>
                <a:ea typeface="ＭＳ Ｐゴシック"/>
              </a:rPr>
              <a:t>FONT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hteck 42"/>
          <p:cNvSpPr/>
          <p:nvPr/>
        </p:nvSpPr>
        <p:spPr>
          <a:xfrm>
            <a:off x="5593320" y="3056040"/>
            <a:ext cx="1393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9f8db6"/>
                </a:solidFill>
                <a:latin typeface="Verdana"/>
                <a:ea typeface="ＭＳ Ｐゴシック"/>
              </a:rPr>
              <a:t>LIN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uppieren 105"/>
          <p:cNvGrpSpPr/>
          <p:nvPr/>
        </p:nvGrpSpPr>
        <p:grpSpPr>
          <a:xfrm>
            <a:off x="480960" y="1163520"/>
            <a:ext cx="1730520" cy="1981440"/>
            <a:chOff x="480960" y="1163520"/>
            <a:chExt cx="1730520" cy="1981440"/>
          </a:xfrm>
        </p:grpSpPr>
        <p:pic>
          <p:nvPicPr>
            <p:cNvPr id="294" name="Grafik 106" descr=""/>
            <p:cNvPicPr/>
            <p:nvPr/>
          </p:nvPicPr>
          <p:blipFill>
            <a:blip r:embed="rId4"/>
            <a:stretch/>
          </p:blipFill>
          <p:spPr>
            <a:xfrm>
              <a:off x="480960" y="1334880"/>
              <a:ext cx="63504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Grafik 107" descr=""/>
            <p:cNvPicPr/>
            <p:nvPr/>
          </p:nvPicPr>
          <p:blipFill>
            <a:blip r:embed="rId5"/>
            <a:stretch/>
          </p:blipFill>
          <p:spPr>
            <a:xfrm>
              <a:off x="978840" y="1163520"/>
              <a:ext cx="64728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Grafik 108" descr=""/>
            <p:cNvPicPr/>
            <p:nvPr/>
          </p:nvPicPr>
          <p:blipFill>
            <a:blip r:embed="rId6"/>
            <a:stretch/>
          </p:blipFill>
          <p:spPr>
            <a:xfrm>
              <a:off x="1003680" y="1563480"/>
              <a:ext cx="62244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Grafik 109" descr=""/>
            <p:cNvPicPr/>
            <p:nvPr/>
          </p:nvPicPr>
          <p:blipFill>
            <a:blip r:embed="rId7"/>
            <a:stretch/>
          </p:blipFill>
          <p:spPr>
            <a:xfrm>
              <a:off x="1489320" y="1268280"/>
              <a:ext cx="63504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Grafik 110" descr=""/>
            <p:cNvPicPr/>
            <p:nvPr/>
          </p:nvPicPr>
          <p:blipFill>
            <a:blip r:embed="rId8"/>
            <a:stretch/>
          </p:blipFill>
          <p:spPr>
            <a:xfrm>
              <a:off x="1551600" y="2173320"/>
              <a:ext cx="63504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Grafik 111" descr=""/>
            <p:cNvPicPr/>
            <p:nvPr/>
          </p:nvPicPr>
          <p:blipFill>
            <a:blip r:embed="rId9"/>
            <a:stretch/>
          </p:blipFill>
          <p:spPr>
            <a:xfrm>
              <a:off x="1041120" y="2030400"/>
              <a:ext cx="62244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Grafik 112" descr=""/>
            <p:cNvPicPr/>
            <p:nvPr/>
          </p:nvPicPr>
          <p:blipFill>
            <a:blip r:embed="rId10"/>
            <a:stretch/>
          </p:blipFill>
          <p:spPr>
            <a:xfrm>
              <a:off x="493200" y="1801800"/>
              <a:ext cx="62244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Grafik 113" descr=""/>
            <p:cNvPicPr/>
            <p:nvPr/>
          </p:nvPicPr>
          <p:blipFill>
            <a:blip r:embed="rId11"/>
            <a:stretch/>
          </p:blipFill>
          <p:spPr>
            <a:xfrm>
              <a:off x="1576440" y="1706400"/>
              <a:ext cx="635040" cy="97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2" name="Gruppieren 114"/>
          <p:cNvGrpSpPr/>
          <p:nvPr/>
        </p:nvGrpSpPr>
        <p:grpSpPr>
          <a:xfrm>
            <a:off x="4780080" y="4581360"/>
            <a:ext cx="1730160" cy="1979640"/>
            <a:chOff x="4780080" y="4581360"/>
            <a:chExt cx="1730160" cy="1979640"/>
          </a:xfrm>
        </p:grpSpPr>
        <p:pic>
          <p:nvPicPr>
            <p:cNvPr id="303" name="Grafik 115" descr=""/>
            <p:cNvPicPr/>
            <p:nvPr/>
          </p:nvPicPr>
          <p:blipFill>
            <a:blip r:embed="rId12"/>
            <a:stretch/>
          </p:blipFill>
          <p:spPr>
            <a:xfrm>
              <a:off x="4780080" y="4762800"/>
              <a:ext cx="630360" cy="95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Grafik 116" descr=""/>
            <p:cNvPicPr/>
            <p:nvPr/>
          </p:nvPicPr>
          <p:blipFill>
            <a:blip r:embed="rId13"/>
            <a:stretch/>
          </p:blipFill>
          <p:spPr>
            <a:xfrm>
              <a:off x="5274360" y="4581360"/>
              <a:ext cx="654840" cy="95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Grafik 117" descr=""/>
            <p:cNvPicPr/>
            <p:nvPr/>
          </p:nvPicPr>
          <p:blipFill>
            <a:blip r:embed="rId14"/>
            <a:stretch/>
          </p:blipFill>
          <p:spPr>
            <a:xfrm>
              <a:off x="5299200" y="4982760"/>
              <a:ext cx="630360" cy="95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Grafik 118" descr=""/>
            <p:cNvPicPr/>
            <p:nvPr/>
          </p:nvPicPr>
          <p:blipFill>
            <a:blip r:embed="rId15"/>
            <a:stretch/>
          </p:blipFill>
          <p:spPr>
            <a:xfrm>
              <a:off x="5793480" y="4676760"/>
              <a:ext cx="630360" cy="95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Grafik 119" descr=""/>
            <p:cNvPicPr/>
            <p:nvPr/>
          </p:nvPicPr>
          <p:blipFill>
            <a:blip r:embed="rId16"/>
            <a:stretch/>
          </p:blipFill>
          <p:spPr>
            <a:xfrm>
              <a:off x="5842800" y="5614200"/>
              <a:ext cx="630360" cy="94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Grafik 120" descr=""/>
            <p:cNvPicPr/>
            <p:nvPr/>
          </p:nvPicPr>
          <p:blipFill>
            <a:blip r:embed="rId17"/>
            <a:stretch/>
          </p:blipFill>
          <p:spPr>
            <a:xfrm>
              <a:off x="5348520" y="5451480"/>
              <a:ext cx="617760" cy="95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Grafik 121" descr=""/>
            <p:cNvPicPr/>
            <p:nvPr/>
          </p:nvPicPr>
          <p:blipFill>
            <a:blip r:embed="rId18"/>
            <a:stretch/>
          </p:blipFill>
          <p:spPr>
            <a:xfrm>
              <a:off x="4792320" y="5222160"/>
              <a:ext cx="630360" cy="95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Grafik 122" descr=""/>
            <p:cNvPicPr/>
            <p:nvPr/>
          </p:nvPicPr>
          <p:blipFill>
            <a:blip r:embed="rId19"/>
            <a:stretch/>
          </p:blipFill>
          <p:spPr>
            <a:xfrm>
              <a:off x="5879880" y="5136120"/>
              <a:ext cx="630360" cy="956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1" name="Gruppieren 123"/>
          <p:cNvGrpSpPr/>
          <p:nvPr/>
        </p:nvGrpSpPr>
        <p:grpSpPr>
          <a:xfrm>
            <a:off x="6454800" y="1166760"/>
            <a:ext cx="1731960" cy="1981080"/>
            <a:chOff x="6454800" y="1166760"/>
            <a:chExt cx="1731960" cy="1981080"/>
          </a:xfrm>
        </p:grpSpPr>
        <p:pic>
          <p:nvPicPr>
            <p:cNvPr id="312" name="Grafik 124" descr=""/>
            <p:cNvPicPr/>
            <p:nvPr/>
          </p:nvPicPr>
          <p:blipFill>
            <a:blip r:embed="rId20"/>
            <a:stretch/>
          </p:blipFill>
          <p:spPr>
            <a:xfrm>
              <a:off x="6454800" y="1348560"/>
              <a:ext cx="630720" cy="95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Grafik 125" descr=""/>
            <p:cNvPicPr/>
            <p:nvPr/>
          </p:nvPicPr>
          <p:blipFill>
            <a:blip r:embed="rId21"/>
            <a:stretch/>
          </p:blipFill>
          <p:spPr>
            <a:xfrm>
              <a:off x="6949440" y="1166760"/>
              <a:ext cx="655560" cy="95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Grafik 126" descr=""/>
            <p:cNvPicPr/>
            <p:nvPr/>
          </p:nvPicPr>
          <p:blipFill>
            <a:blip r:embed="rId22"/>
            <a:stretch/>
          </p:blipFill>
          <p:spPr>
            <a:xfrm>
              <a:off x="6974280" y="1568520"/>
              <a:ext cx="630720" cy="95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Grafik 127" descr=""/>
            <p:cNvPicPr/>
            <p:nvPr/>
          </p:nvPicPr>
          <p:blipFill>
            <a:blip r:embed="rId23"/>
            <a:stretch/>
          </p:blipFill>
          <p:spPr>
            <a:xfrm>
              <a:off x="7469280" y="1262160"/>
              <a:ext cx="630720" cy="95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Grafik 128" descr=""/>
            <p:cNvPicPr/>
            <p:nvPr/>
          </p:nvPicPr>
          <p:blipFill>
            <a:blip r:embed="rId24"/>
            <a:stretch/>
          </p:blipFill>
          <p:spPr>
            <a:xfrm>
              <a:off x="7518600" y="2190960"/>
              <a:ext cx="630720" cy="95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Grafik 129" descr=""/>
            <p:cNvPicPr/>
            <p:nvPr/>
          </p:nvPicPr>
          <p:blipFill>
            <a:blip r:embed="rId25"/>
            <a:stretch/>
          </p:blipFill>
          <p:spPr>
            <a:xfrm>
              <a:off x="7023960" y="2037600"/>
              <a:ext cx="618480" cy="95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Grafik 130" descr=""/>
            <p:cNvPicPr/>
            <p:nvPr/>
          </p:nvPicPr>
          <p:blipFill>
            <a:blip r:embed="rId26"/>
            <a:stretch/>
          </p:blipFill>
          <p:spPr>
            <a:xfrm>
              <a:off x="6467040" y="1807920"/>
              <a:ext cx="630720" cy="95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Grafik 131" descr=""/>
            <p:cNvPicPr/>
            <p:nvPr/>
          </p:nvPicPr>
          <p:blipFill>
            <a:blip r:embed="rId27"/>
            <a:stretch/>
          </p:blipFill>
          <p:spPr>
            <a:xfrm>
              <a:off x="7556040" y="1721880"/>
              <a:ext cx="630720" cy="956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hteck 12"/>
          <p:cNvSpPr/>
          <p:nvPr/>
        </p:nvSpPr>
        <p:spPr>
          <a:xfrm>
            <a:off x="7243920" y="1052640"/>
            <a:ext cx="1884240" cy="18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Grafik 14" descr=""/>
          <p:cNvPicPr/>
          <p:nvPr/>
        </p:nvPicPr>
        <p:blipFill>
          <a:blip r:embed="rId1"/>
          <a:srcRect l="21875" t="0" r="21875" b="0"/>
          <a:stretch/>
        </p:blipFill>
        <p:spPr>
          <a:xfrm>
            <a:off x="3627360" y="4454640"/>
            <a:ext cx="1908360" cy="1908000"/>
          </a:xfrm>
          <a:prstGeom prst="rect">
            <a:avLst/>
          </a:prstGeom>
          <a:ln w="0">
            <a:noFill/>
          </a:ln>
        </p:spPr>
      </p:pic>
      <p:pic>
        <p:nvPicPr>
          <p:cNvPr id="322" name="Grafik 12" descr="Hier wird das Armenviertel vom Reichenviertel lediglich von einer StraÃe getrennt."/>
          <p:cNvPicPr/>
          <p:nvPr/>
        </p:nvPicPr>
        <p:blipFill>
          <a:blip r:embed="rId2"/>
          <a:srcRect l="0" t="2272" r="0" b="2272"/>
          <a:stretch/>
        </p:blipFill>
        <p:spPr>
          <a:xfrm>
            <a:off x="1943280" y="1052640"/>
            <a:ext cx="1908000" cy="1908000"/>
          </a:xfrm>
          <a:prstGeom prst="rect">
            <a:avLst/>
          </a:prstGeom>
          <a:ln w="0">
            <a:noFill/>
          </a:ln>
        </p:spPr>
      </p:pic>
      <p:pic>
        <p:nvPicPr>
          <p:cNvPr id="323" name="Grafik 16" descr="Perth, Australien, Stadt, Städte, Café, Geschäfte"/>
          <p:cNvPicPr/>
          <p:nvPr/>
        </p:nvPicPr>
        <p:blipFill>
          <a:blip r:embed="rId3"/>
          <a:srcRect l="2510" t="0" r="36140" b="0"/>
          <a:stretch/>
        </p:blipFill>
        <p:spPr>
          <a:xfrm>
            <a:off x="5327640" y="1050840"/>
            <a:ext cx="1906560" cy="1908360"/>
          </a:xfrm>
          <a:prstGeom prst="rect">
            <a:avLst/>
          </a:prstGeom>
          <a:ln w="0">
            <a:noFill/>
          </a:ln>
        </p:spPr>
      </p:pic>
      <p:sp>
        <p:nvSpPr>
          <p:cNvPr id="324" name="Rechteck: abgerundete Ecken 36"/>
          <p:cNvSpPr/>
          <p:nvPr/>
        </p:nvSpPr>
        <p:spPr>
          <a:xfrm>
            <a:off x="539640" y="-100080"/>
            <a:ext cx="29480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e9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600" spc="-1" strike="noStrike">
                <a:solidFill>
                  <a:srgbClr val="e98080"/>
                </a:solidFill>
                <a:latin typeface="Verdana"/>
              </a:rPr>
              <a:t>DRUGA I TRZECIA RU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hteck 38"/>
          <p:cNvSpPr/>
          <p:nvPr/>
        </p:nvSpPr>
        <p:spPr>
          <a:xfrm>
            <a:off x="2280600" y="3033720"/>
            <a:ext cx="1285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7fa4e7"/>
                </a:solidFill>
                <a:latin typeface="Verdana"/>
                <a:ea typeface="ＭＳ Ｐゴシック"/>
              </a:rPr>
              <a:t>GAGO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hteck 40"/>
          <p:cNvSpPr/>
          <p:nvPr/>
        </p:nvSpPr>
        <p:spPr>
          <a:xfrm>
            <a:off x="3886200" y="3986280"/>
            <a:ext cx="1396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ea8080"/>
                </a:solidFill>
                <a:latin typeface="Verdana"/>
                <a:ea typeface="ＭＳ Ｐゴシック"/>
              </a:rPr>
              <a:t>FONT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hteck 42"/>
          <p:cNvSpPr/>
          <p:nvPr/>
        </p:nvSpPr>
        <p:spPr>
          <a:xfrm>
            <a:off x="5593320" y="3056040"/>
            <a:ext cx="1393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9f8db6"/>
                </a:solidFill>
                <a:latin typeface="Verdana"/>
                <a:ea typeface="ＭＳ Ｐゴシック"/>
              </a:rPr>
              <a:t>LIN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uppieren 11"/>
          <p:cNvGrpSpPr/>
          <p:nvPr/>
        </p:nvGrpSpPr>
        <p:grpSpPr>
          <a:xfrm>
            <a:off x="480960" y="1163520"/>
            <a:ext cx="1730520" cy="1981440"/>
            <a:chOff x="480960" y="1163520"/>
            <a:chExt cx="1730520" cy="1981440"/>
          </a:xfrm>
        </p:grpSpPr>
        <p:pic>
          <p:nvPicPr>
            <p:cNvPr id="329" name="Grafik 43" descr=""/>
            <p:cNvPicPr/>
            <p:nvPr/>
          </p:nvPicPr>
          <p:blipFill>
            <a:blip r:embed="rId4"/>
            <a:stretch/>
          </p:blipFill>
          <p:spPr>
            <a:xfrm>
              <a:off x="480960" y="1334880"/>
              <a:ext cx="63504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Grafik 44" descr=""/>
            <p:cNvPicPr/>
            <p:nvPr/>
          </p:nvPicPr>
          <p:blipFill>
            <a:blip r:embed="rId5"/>
            <a:stretch/>
          </p:blipFill>
          <p:spPr>
            <a:xfrm>
              <a:off x="978840" y="1163520"/>
              <a:ext cx="64728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Grafik 45" descr=""/>
            <p:cNvPicPr/>
            <p:nvPr/>
          </p:nvPicPr>
          <p:blipFill>
            <a:blip r:embed="rId6"/>
            <a:stretch/>
          </p:blipFill>
          <p:spPr>
            <a:xfrm>
              <a:off x="1003680" y="1563480"/>
              <a:ext cx="62244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Grafik 46" descr=""/>
            <p:cNvPicPr/>
            <p:nvPr/>
          </p:nvPicPr>
          <p:blipFill>
            <a:blip r:embed="rId7"/>
            <a:stretch/>
          </p:blipFill>
          <p:spPr>
            <a:xfrm>
              <a:off x="1489320" y="1268280"/>
              <a:ext cx="63504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Grafik 47" descr=""/>
            <p:cNvPicPr/>
            <p:nvPr/>
          </p:nvPicPr>
          <p:blipFill>
            <a:blip r:embed="rId8"/>
            <a:stretch/>
          </p:blipFill>
          <p:spPr>
            <a:xfrm>
              <a:off x="1551600" y="2173320"/>
              <a:ext cx="63504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Grafik 48" descr=""/>
            <p:cNvPicPr/>
            <p:nvPr/>
          </p:nvPicPr>
          <p:blipFill>
            <a:blip r:embed="rId9"/>
            <a:stretch/>
          </p:blipFill>
          <p:spPr>
            <a:xfrm>
              <a:off x="1041120" y="2030400"/>
              <a:ext cx="62244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Grafik 49" descr=""/>
            <p:cNvPicPr/>
            <p:nvPr/>
          </p:nvPicPr>
          <p:blipFill>
            <a:blip r:embed="rId10"/>
            <a:stretch/>
          </p:blipFill>
          <p:spPr>
            <a:xfrm>
              <a:off x="493200" y="1801800"/>
              <a:ext cx="62244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Grafik 50" descr=""/>
            <p:cNvPicPr/>
            <p:nvPr/>
          </p:nvPicPr>
          <p:blipFill>
            <a:blip r:embed="rId11"/>
            <a:stretch/>
          </p:blipFill>
          <p:spPr>
            <a:xfrm>
              <a:off x="1576440" y="1706400"/>
              <a:ext cx="635040" cy="97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7" name="Gruppieren 73"/>
          <p:cNvGrpSpPr/>
          <p:nvPr/>
        </p:nvGrpSpPr>
        <p:grpSpPr>
          <a:xfrm>
            <a:off x="4780080" y="4581360"/>
            <a:ext cx="1730160" cy="1979640"/>
            <a:chOff x="4780080" y="4581360"/>
            <a:chExt cx="1730160" cy="1979640"/>
          </a:xfrm>
        </p:grpSpPr>
        <p:pic>
          <p:nvPicPr>
            <p:cNvPr id="338" name="Grafik 74" descr=""/>
            <p:cNvPicPr/>
            <p:nvPr/>
          </p:nvPicPr>
          <p:blipFill>
            <a:blip r:embed="rId12"/>
            <a:stretch/>
          </p:blipFill>
          <p:spPr>
            <a:xfrm>
              <a:off x="4780080" y="4762800"/>
              <a:ext cx="630360" cy="95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Grafik 75" descr=""/>
            <p:cNvPicPr/>
            <p:nvPr/>
          </p:nvPicPr>
          <p:blipFill>
            <a:blip r:embed="rId13"/>
            <a:stretch/>
          </p:blipFill>
          <p:spPr>
            <a:xfrm>
              <a:off x="5274360" y="4581360"/>
              <a:ext cx="654840" cy="95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Grafik 76" descr=""/>
            <p:cNvPicPr/>
            <p:nvPr/>
          </p:nvPicPr>
          <p:blipFill>
            <a:blip r:embed="rId14"/>
            <a:stretch/>
          </p:blipFill>
          <p:spPr>
            <a:xfrm>
              <a:off x="5299200" y="4982760"/>
              <a:ext cx="630360" cy="95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Grafik 77" descr=""/>
            <p:cNvPicPr/>
            <p:nvPr/>
          </p:nvPicPr>
          <p:blipFill>
            <a:blip r:embed="rId15"/>
            <a:stretch/>
          </p:blipFill>
          <p:spPr>
            <a:xfrm>
              <a:off x="5793480" y="4676760"/>
              <a:ext cx="630360" cy="95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Grafik 78" descr=""/>
            <p:cNvPicPr/>
            <p:nvPr/>
          </p:nvPicPr>
          <p:blipFill>
            <a:blip r:embed="rId16"/>
            <a:stretch/>
          </p:blipFill>
          <p:spPr>
            <a:xfrm>
              <a:off x="5842800" y="5614200"/>
              <a:ext cx="630360" cy="94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Grafik 79" descr=""/>
            <p:cNvPicPr/>
            <p:nvPr/>
          </p:nvPicPr>
          <p:blipFill>
            <a:blip r:embed="rId17"/>
            <a:stretch/>
          </p:blipFill>
          <p:spPr>
            <a:xfrm>
              <a:off x="5348520" y="5451480"/>
              <a:ext cx="617760" cy="95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Grafik 80" descr=""/>
            <p:cNvPicPr/>
            <p:nvPr/>
          </p:nvPicPr>
          <p:blipFill>
            <a:blip r:embed="rId18"/>
            <a:stretch/>
          </p:blipFill>
          <p:spPr>
            <a:xfrm>
              <a:off x="4792320" y="5222160"/>
              <a:ext cx="630360" cy="95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Grafik 81" descr=""/>
            <p:cNvPicPr/>
            <p:nvPr/>
          </p:nvPicPr>
          <p:blipFill>
            <a:blip r:embed="rId19"/>
            <a:stretch/>
          </p:blipFill>
          <p:spPr>
            <a:xfrm>
              <a:off x="5879880" y="5136120"/>
              <a:ext cx="630360" cy="956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6" name="Gruppieren 82"/>
          <p:cNvGrpSpPr/>
          <p:nvPr/>
        </p:nvGrpSpPr>
        <p:grpSpPr>
          <a:xfrm>
            <a:off x="6454800" y="1166760"/>
            <a:ext cx="1731960" cy="1981080"/>
            <a:chOff x="6454800" y="1166760"/>
            <a:chExt cx="1731960" cy="1981080"/>
          </a:xfrm>
        </p:grpSpPr>
        <p:pic>
          <p:nvPicPr>
            <p:cNvPr id="347" name="Grafik 83" descr=""/>
            <p:cNvPicPr/>
            <p:nvPr/>
          </p:nvPicPr>
          <p:blipFill>
            <a:blip r:embed="rId20"/>
            <a:stretch/>
          </p:blipFill>
          <p:spPr>
            <a:xfrm>
              <a:off x="6454800" y="1348560"/>
              <a:ext cx="630720" cy="95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Grafik 84" descr=""/>
            <p:cNvPicPr/>
            <p:nvPr/>
          </p:nvPicPr>
          <p:blipFill>
            <a:blip r:embed="rId21"/>
            <a:stretch/>
          </p:blipFill>
          <p:spPr>
            <a:xfrm>
              <a:off x="6949440" y="1166760"/>
              <a:ext cx="655560" cy="95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Grafik 85" descr=""/>
            <p:cNvPicPr/>
            <p:nvPr/>
          </p:nvPicPr>
          <p:blipFill>
            <a:blip r:embed="rId22"/>
            <a:stretch/>
          </p:blipFill>
          <p:spPr>
            <a:xfrm>
              <a:off x="6974280" y="1568520"/>
              <a:ext cx="630720" cy="95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Grafik 86" descr=""/>
            <p:cNvPicPr/>
            <p:nvPr/>
          </p:nvPicPr>
          <p:blipFill>
            <a:blip r:embed="rId23"/>
            <a:stretch/>
          </p:blipFill>
          <p:spPr>
            <a:xfrm>
              <a:off x="7469280" y="1262160"/>
              <a:ext cx="630720" cy="95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Grafik 87" descr=""/>
            <p:cNvPicPr/>
            <p:nvPr/>
          </p:nvPicPr>
          <p:blipFill>
            <a:blip r:embed="rId24"/>
            <a:stretch/>
          </p:blipFill>
          <p:spPr>
            <a:xfrm>
              <a:off x="7518600" y="2190960"/>
              <a:ext cx="630720" cy="95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Grafik 88" descr=""/>
            <p:cNvPicPr/>
            <p:nvPr/>
          </p:nvPicPr>
          <p:blipFill>
            <a:blip r:embed="rId25"/>
            <a:stretch/>
          </p:blipFill>
          <p:spPr>
            <a:xfrm>
              <a:off x="7023960" y="2037600"/>
              <a:ext cx="618480" cy="95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Grafik 89" descr=""/>
            <p:cNvPicPr/>
            <p:nvPr/>
          </p:nvPicPr>
          <p:blipFill>
            <a:blip r:embed="rId26"/>
            <a:stretch/>
          </p:blipFill>
          <p:spPr>
            <a:xfrm>
              <a:off x="6467040" y="1807920"/>
              <a:ext cx="630720" cy="95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Grafik 90" descr=""/>
            <p:cNvPicPr/>
            <p:nvPr/>
          </p:nvPicPr>
          <p:blipFill>
            <a:blip r:embed="rId27"/>
            <a:stretch/>
          </p:blipFill>
          <p:spPr>
            <a:xfrm>
              <a:off x="7556040" y="1721880"/>
              <a:ext cx="630720" cy="95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5" name="Pfeil nach rechts 95"/>
          <p:cNvSpPr/>
          <p:nvPr/>
        </p:nvSpPr>
        <p:spPr>
          <a:xfrm rot="10800000">
            <a:off x="4133880" y="1882800"/>
            <a:ext cx="900000" cy="28728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323e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feil nach rechts 96"/>
          <p:cNvSpPr/>
          <p:nvPr/>
        </p:nvSpPr>
        <p:spPr>
          <a:xfrm rot="2700000">
            <a:off x="2616480" y="3790080"/>
            <a:ext cx="900360" cy="28908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323e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feil nach rechts 97"/>
          <p:cNvSpPr/>
          <p:nvPr/>
        </p:nvSpPr>
        <p:spPr>
          <a:xfrm rot="18817200">
            <a:off x="5673600" y="3727440"/>
            <a:ext cx="900000" cy="28764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323e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3T09:36:39Z</dcterms:created>
  <dc:creator>Klaus Schneider</dc:creator>
  <dc:description/>
  <dc:language>en-US</dc:language>
  <cp:lastModifiedBy>Sylwia Żmijewska-Kwiręg</cp:lastModifiedBy>
  <cp:lastPrinted>2018-06-27T11:53:32Z</cp:lastPrinted>
  <dcterms:modified xsi:type="dcterms:W3CDTF">2020-06-11T06:45:10Z</dcterms:modified>
  <cp:revision>385</cp:revision>
  <dc:subject/>
  <dc:title>PowerPoint-Präsentation</dc:title>
</cp:coreProperties>
</file>